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20B0-901E-4849-986B-CF3346BA5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69B5-6425-40DA-B517-820C586E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3A61-FF3A-4347-B03B-EDDBACEA4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86F8-3F6D-4D03-88F9-AC4FB130E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7A65-4AB8-4900-B75E-338270DE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6284-2DB6-482F-996E-1EAFD8DE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F3DD-A64D-49B3-9A62-B8128A94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AA20-992D-417C-9A8D-6686552A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78CC-7DA1-41D6-8E4F-1DC106E8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1DD8-424D-4E16-8675-2D9035A4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5278-38C2-48A1-94AC-117A265D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6FBD-25D7-48F7-9DE1-81F5CFFC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6881-1B37-4597-8F6F-08580343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6EE9-CFF4-49B3-87D4-EA8AD797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C110-9884-4606-9C40-4E65B812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7B1F-3953-49B2-9208-8F504EDC6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5AEC-D549-4C01-BDF8-DAF0C4E88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8AA0-3BB7-4EAF-B58A-4968C2B9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E762-D86F-4476-9157-CF7DF65F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2EFD-2BC8-4BA0-A1EE-71FE2948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7A75-2BD9-4294-9787-2E0F334A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4C7E-8517-4126-95D5-6527E8A7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80E2-D007-4CAF-A33F-0673E2C9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EFD1-6825-45EA-9D1A-B76BFF57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43E5-D186-451D-9A46-DF87E2F0411B}" type="slidenum">
              <a:rPr b="0" lang="sr-Latn-C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4C26-C9A2-40A8-BFA2-BC5C29312668}" type="slidenum">
              <a:rPr b="0" lang="sr-Latn-C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1523520"/>
            <a:ext cx="82803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6633"/>
                </a:solidFill>
                <a:latin typeface="Garamond"/>
              </a:rPr>
              <a:t>ПОРЕМЕЋАЈ МЕТАБОЛИЗМА ЕЛЕКТРОЛИТА И ВОДЕ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ХИПЕРКАЛИЈЕМИЈА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68560"/>
            <a:ext cx="83628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Антагонизовање ефеката К</a:t>
            </a:r>
            <a:r>
              <a:rPr b="1" lang="sr-Latn-CS" sz="1800" spc="-1" strike="noStrike" baseline="30000">
                <a:solidFill>
                  <a:srgbClr val="3b812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8,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NaH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0-3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CaC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-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glukon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-3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л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Преусмеравање К</a:t>
            </a:r>
            <a:r>
              <a:rPr b="1" lang="sr-Latn-CS" sz="1800" spc="-1" strike="noStrike" baseline="30000">
                <a:solidFill>
                  <a:srgbClr val="3b812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 у ћелијск</a:t>
            </a:r>
            <a:r>
              <a:rPr b="1" lang="sr-Latn-CS" sz="1800" spc="-1" strike="noStrike">
                <a:solidFill>
                  <a:srgbClr val="3b812f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 простор</a:t>
            </a: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%-5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 гликозе са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иј Инсулин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cry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6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р. гликоз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Појачање елиминаци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Јоноизмењивачке смоле: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exal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,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esoniu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Диуретици који не штеде калију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orbitol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или дубоке клизм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Хемодијализ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ВОДА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Arial"/>
              </a:rPr>
              <a:t>ДЕХИДРАТАЦ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губитак соли и воде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3b812f"/>
                </a:solidFill>
                <a:latin typeface="Arial"/>
              </a:rPr>
              <a:t>I </a:t>
            </a:r>
            <a:r>
              <a:rPr b="1" lang="en-US" sz="1600" spc="-1" strike="noStrike">
                <a:solidFill>
                  <a:srgbClr val="3b812f"/>
                </a:solidFill>
                <a:latin typeface="Arial"/>
              </a:rPr>
              <a:t>Хипертонијска</a:t>
            </a:r>
            <a:r>
              <a:rPr b="1" lang="sr-Latn-CS" sz="1600" spc="-1" strike="noStrike">
                <a:solidFill>
                  <a:srgbClr val="3b812f"/>
                </a:solidFill>
                <a:latin typeface="Arial"/>
              </a:rPr>
              <a:t> - </a:t>
            </a: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хипернатријемиј</a:t>
            </a:r>
            <a:r>
              <a:rPr b="0" lang="sr-Latn-CS" sz="1600" spc="-1" strike="noStrike">
                <a:solidFill>
                  <a:srgbClr val="006633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КС:</a:t>
            </a:r>
            <a:r>
              <a:rPr b="0" lang="en-US" sz="1500" spc="-1" strike="noStrike">
                <a:solidFill>
                  <a:srgbClr val="3b812f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3b812f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ећај жедји и малаксалост, код деце фебрилн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потензија, колапс и шок са менталном конфузиј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sr-Latn-C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докнад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течности-вод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500" spc="-1" strike="noStrike">
                <a:solidFill>
                  <a:srgbClr val="0000cc"/>
                </a:solidFill>
                <a:latin typeface="Arial"/>
              </a:rPr>
              <a:t>                   </a:t>
            </a: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Дефицит:</a:t>
            </a:r>
            <a:r>
              <a:rPr b="0" lang="en-US" sz="1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н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мална запремина воде (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6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т.м.) - актуелна запремина в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ктуелна запремина вод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нормална запремина воде x нормалан</a:t>
            </a:r>
            <a:r>
              <a:rPr b="0" lang="sr-Latn-CS" sz="1200" spc="-1" strike="noStrike" u="sng">
                <a:solidFill>
                  <a:srgbClr val="000000"/>
                </a:solidFill>
                <a:uFillTx/>
                <a:latin typeface="Arial"/>
              </a:rPr>
              <a:t> N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0" lang="en-US" sz="1200" spc="-1" strike="noStrike" u="sng" baseline="30000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ктуелни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у серу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3b812f"/>
                </a:solidFill>
                <a:latin typeface="Arial"/>
              </a:rPr>
              <a:t>II</a:t>
            </a:r>
            <a:r>
              <a:rPr b="0" lang="en-US" sz="1600" spc="-1" strike="noStrike">
                <a:solidFill>
                  <a:srgbClr val="3b812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b812f"/>
                </a:solidFill>
                <a:latin typeface="Arial"/>
              </a:rPr>
              <a:t>Хипотонијска</a:t>
            </a:r>
            <a:r>
              <a:rPr b="1" lang="sr-Latn-CS" sz="1600" spc="-1" strike="noStrike">
                <a:solidFill>
                  <a:srgbClr val="3b812f"/>
                </a:solidFill>
                <a:latin typeface="Arial"/>
              </a:rPr>
              <a:t> –</a:t>
            </a:r>
            <a:r>
              <a:rPr b="0" lang="en-US" sz="1600" spc="-1" strike="noStrike">
                <a:solidFill>
                  <a:srgbClr val="3b812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хипонатријем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КС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лини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и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ука, га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ње, повраћање, пад притиска, грчеви у мишићи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Лабораторија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хипонатријемија, пораст азотемије, протеинемије и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H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sr-Latn-C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Корекција дефицита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на описани начи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3b812f"/>
                </a:solidFill>
                <a:latin typeface="Arial"/>
              </a:rPr>
              <a:t>III</a:t>
            </a:r>
            <a:r>
              <a:rPr b="0" lang="en-US" sz="1600" spc="-1" strike="noStrike">
                <a:solidFill>
                  <a:srgbClr val="3b812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b812f"/>
                </a:solidFill>
                <a:latin typeface="Arial"/>
              </a:rPr>
              <a:t>Изотонијска</a:t>
            </a:r>
            <a:r>
              <a:rPr b="1" lang="sr-Latn-CS" sz="1600" spc="-1" strike="noStrike">
                <a:solidFill>
                  <a:srgbClr val="3b812f"/>
                </a:solidFill>
                <a:latin typeface="Arial"/>
              </a:rPr>
              <a:t> 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пропорционал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губитак соли и вод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ВОДА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39920"/>
            <a:ext cx="84358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6633"/>
                </a:solidFill>
                <a:latin typeface="Arial"/>
              </a:rPr>
              <a:t>ХИПЕРХИДРАТАЦИЈ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повећање соли и воде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3b812f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Изотонијска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већање запремине воде уз паралелно повећање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еде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ЕДЕМ </a:t>
            </a:r>
            <a:r>
              <a:rPr b="0" lang="sr-Latn-CS" sz="1300" spc="-1" strike="noStrike">
                <a:solidFill>
                  <a:srgbClr val="000000"/>
                </a:solidFill>
                <a:latin typeface="Arial"/>
              </a:rPr>
              <a:t>се испољава кад запремина </a:t>
            </a:r>
            <a:r>
              <a:rPr b="0" lang="en-US" sz="1300" spc="-1" strike="noStrike">
                <a:solidFill>
                  <a:srgbClr val="006633"/>
                </a:solidFill>
                <a:latin typeface="Arial"/>
              </a:rPr>
              <a:t>интерстицијске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течности</a:t>
            </a:r>
            <a:r>
              <a:rPr b="0" lang="sr-Latn-CS" sz="1300" spc="-1" strike="noStrike">
                <a:solidFill>
                  <a:srgbClr val="000000"/>
                </a:solidFill>
                <a:latin typeface="Arial"/>
              </a:rPr>
              <a:t> буде за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3300"/>
                </a:solidFill>
                <a:latin typeface="Arial"/>
              </a:rPr>
              <a:t>10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sr-Latn-CS" sz="1300" spc="-1" strike="noStrike">
                <a:solidFill>
                  <a:srgbClr val="000000"/>
                </a:solidFill>
                <a:latin typeface="Arial"/>
              </a:rPr>
              <a:t> већа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300" spc="-1" strike="noStrike">
                <a:solidFill>
                  <a:srgbClr val="000000"/>
                </a:solidFill>
                <a:latin typeface="Arial"/>
              </a:rPr>
              <a:t>од нормалн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КС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ознати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знаци едема и стазе различитога степена испољеност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sr-Latn-CS" sz="1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иуретици у различитим комбинацијам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ечење основне болести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3b812f"/>
                </a:solidFill>
                <a:latin typeface="Arial"/>
              </a:rPr>
              <a:t>II 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Хипертонијска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доминира хипер-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која је објашњива </a:t>
            </a:r>
            <a:r>
              <a:rPr b="0" lang="en-US" sz="1300" spc="-1" strike="noStrike">
                <a:solidFill>
                  <a:srgbClr val="006633"/>
                </a:solidFill>
                <a:latin typeface="Arial"/>
              </a:rPr>
              <a:t>неуношење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воде у току диуретске  терапије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3b812f"/>
                </a:solidFill>
                <a:latin typeface="Arial"/>
              </a:rPr>
              <a:t>III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Хипотонијска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се карактерише повећаном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бубрежно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6633"/>
                </a:solidFill>
                <a:latin typeface="Arial"/>
              </a:rPr>
              <a:t>екс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300" spc="-1" strike="noStrike">
                <a:solidFill>
                  <a:srgbClr val="006633"/>
                </a:solidFill>
                <a:latin typeface="Arial"/>
              </a:rPr>
              <a:t>рецијо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300" spc="-1" strike="noStrike">
                <a:solidFill>
                  <a:srgbClr val="006633"/>
                </a:solidFill>
                <a:latin typeface="Arial"/>
              </a:rPr>
              <a:t>а</a:t>
            </a:r>
            <a:r>
              <a:rPr b="0" lang="en-US" sz="1400" spc="-1" strike="noStrike" baseline="30000">
                <a:solidFill>
                  <a:srgbClr val="006633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у односу на воду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па се  услед вишка телесне воде она из циркулације “редистрибуира” у ћелије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“тровањ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водом”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КС: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писана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300" spc="-1" strike="noStrike">
                <a:solidFill>
                  <a:srgbClr val="000000"/>
                </a:solidFill>
                <a:latin typeface="Arial"/>
              </a:rPr>
              <a:t>Т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писана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МЕТАБОЛИЧКА АЦИДОЗА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08720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3300"/>
                </a:solidFill>
                <a:latin typeface="Arial"/>
              </a:rPr>
              <a:t>I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ПОВЕЋАНО СТВАРАЊЕ КИСЕЛИ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6633"/>
                </a:solidFill>
                <a:latin typeface="Arial"/>
              </a:rPr>
              <a:t>А.</a:t>
            </a:r>
            <a:r>
              <a:rPr b="0" lang="en-US" sz="15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6633"/>
                </a:solidFill>
                <a:latin typeface="Arial"/>
              </a:rPr>
              <a:t>Кетоацидоза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. Дијабетесн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. Алкохолн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. Гладовањ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6633"/>
                </a:solidFill>
                <a:latin typeface="Arial"/>
              </a:rPr>
              <a:t>Б.</a:t>
            </a:r>
            <a:r>
              <a:rPr b="0" lang="en-US" sz="15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6633"/>
                </a:solidFill>
                <a:latin typeface="Arial"/>
              </a:rPr>
              <a:t>Лактатна ацидоза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. Кардиореспираторна инсуф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.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2. Леков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. Ензимопатск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ff3300"/>
                </a:solidFill>
                <a:latin typeface="Arial"/>
              </a:rPr>
              <a:t>II </a:t>
            </a:r>
            <a:r>
              <a:rPr b="1" lang="en-US" sz="1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СМАЊЕНА ЕЛИМИНАЦИЈА КИСЕЛИ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. Бубрежна инсуф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. РТ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Mb. Addison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ff3300"/>
                </a:solidFill>
                <a:latin typeface="Arial"/>
              </a:rPr>
              <a:t>III </a:t>
            </a:r>
            <a:r>
              <a:rPr b="0" lang="en-US" sz="1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ПОВЕЋАН ГУБИТАК АЛКАЛИЈ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. ГИТ губици фистулама и проливима 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. Лекови-инхибитори угљене анхидраз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КС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: 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цидотично Кусмаулово дисање, збуњеност, конфузија, ступор, ко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Лабораторија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: повећана а</a:t>
            </a:r>
            <a:r>
              <a:rPr b="0" lang="sr-CS" sz="1500" spc="-1" strike="noStrike">
                <a:solidFill>
                  <a:srgbClr val="000000"/>
                </a:solidFill>
                <a:latin typeface="Arial"/>
              </a:rPr>
              <a:t>нј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онска празнина плазме: [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15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(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 HC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О3 </a:t>
            </a:r>
            <a:r>
              <a:rPr b="0" lang="sr-Latn-CS" sz="15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] &gt; </a:t>
            </a:r>
            <a:r>
              <a:rPr b="1" lang="en-US" sz="1500" spc="-1" strike="noStrike">
                <a:solidFill>
                  <a:srgbClr val="ff3300"/>
                </a:solidFill>
                <a:latin typeface="Arial"/>
              </a:rPr>
              <a:t>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00"/>
                </a:solidFill>
                <a:latin typeface="Arial"/>
              </a:rPr>
              <a:t>Тh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ечење основног поремећаја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Корекција ањонске празнине бикарбонатима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ff3300"/>
                </a:solidFill>
                <a:latin typeface="Arial"/>
              </a:rPr>
              <a:t>Дефицит: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нормалан 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NaHC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- актуелни 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NaHC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 x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4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% т.м.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500" spc="-1" strike="noStrike">
                <a:solidFill>
                  <a:srgbClr val="0000cc"/>
                </a:solidFill>
                <a:latin typeface="Arial"/>
              </a:rPr>
              <a:t>8.4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NaHC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15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прашком На-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б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карбона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МЕТАБОЛИЧКА </a:t>
            </a:r>
            <a:r>
              <a:rPr b="1" lang="sr-Latn-CS" sz="2500" spc="-1" strike="noStrike">
                <a:solidFill>
                  <a:srgbClr val="006633"/>
                </a:solidFill>
                <a:latin typeface="Garamond"/>
              </a:rPr>
              <a:t>АЛКАЛОЗА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201320"/>
            <a:ext cx="8229600" cy="53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ћан губитак јона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 К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иурез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терапија којом се губе К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враћањ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са губитком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и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ј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Упорн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ливи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: хипо-К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компензаторн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” тубулск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елиминациј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а H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овећана активност надбубрег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алдостерон или кортизол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М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b. Cush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М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b.Kon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Бартеров синдр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(хиперплазија и хипертрофија ЈГ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смањена реапсорпција На, К+, Цл-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секундарни пораст активности Р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С-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КС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: 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ка компензаторна хиповентилација, тетаниј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Лабораторијски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: 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раст пХ, концентрације бикарбоната, хипохлоремија, хипокалцијем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sr-Latn-C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Корекција основног поремећа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Корекција запремине са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Корекција хипокалијемије по утврдјеној ше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Примена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NH4C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или аминокиселина везаних за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Хемодијализа у појединим прилика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РЕСПИРАТОРНА АЦИДОЗА</a:t>
            </a:r>
            <a:r>
              <a:rPr b="1" lang="sr-Latn-CS" sz="2500" spc="-1" strike="noStrike">
                <a:solidFill>
                  <a:srgbClr val="006633"/>
                </a:solidFill>
                <a:latin typeface="Garamond"/>
              </a:rPr>
              <a:t> И АЛКАЛОЗА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872640"/>
            <a:ext cx="8291520" cy="59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Arial"/>
              </a:rPr>
              <a:t>РЕСПИРАТОРНА </a:t>
            </a:r>
            <a:r>
              <a:rPr b="1" lang="sr-Latn-CS" sz="1200" spc="-1" strike="noStrike">
                <a:solidFill>
                  <a:srgbClr val="006633"/>
                </a:solidFill>
                <a:latin typeface="Arial"/>
              </a:rPr>
              <a:t>АЦИД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кутна и хронична плућна</a:t>
            </a:r>
            <a:r>
              <a:rPr b="1" lang="en-US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хиповентилација</a:t>
            </a:r>
            <a:r>
              <a:rPr b="1" lang="sr-Latn-CS" sz="12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појачан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сатурација тубулоцита са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па се јаче ствара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H2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односно појачано реапсорбује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H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И</a:t>
            </a: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Обољења груднога коша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неуралгије, миалгије, повреде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2068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: 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складу са основним поремећај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2068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Лабораторија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: 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ижен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повећан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Pa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повећан бикарбон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Т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Корекција основног поремећа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Механичка вентилац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6633"/>
                </a:solidFill>
                <a:latin typeface="Arial"/>
              </a:rPr>
              <a:t>РЕСПИРАТОРНА АЛКАЛ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кутна и хронична плућна</a:t>
            </a:r>
            <a:r>
              <a:rPr b="1" lang="en-US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хипервентилација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болести ЦНС, хепатичка кома, страх, пнеумоније, ЦН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олести, тровања  салицитима, неадекватна механичка вентилац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2068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хипервентилација, тетанија, синкопа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,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2068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Лабораторија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: 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вишен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снижен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Pa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Т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Основне боле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Смиривање болес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Помоћна мера: удисање већ издахнутог ваздуха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 из кесе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>
                <a:solidFill>
                  <a:srgbClr val="006633"/>
                </a:solidFill>
                <a:latin typeface="Garamond"/>
              </a:rPr>
              <a:t>ДИСТРИБУЦИЈА</a:t>
            </a: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 ВОДЕ И ЕЛЕКТРОЛИТА</a:t>
            </a:r>
            <a:r>
              <a:rPr b="1" lang="sr-Latn-CS" sz="2500" spc="-1" strike="noStrike">
                <a:solidFill>
                  <a:srgbClr val="006633"/>
                </a:solidFill>
                <a:latin typeface="Garamond"/>
              </a:rPr>
              <a:t> У ОРГАНИЗМУ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нституенти организма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ишићна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, масн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аса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и в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. вод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5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телесне масе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елијск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телесне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в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страћелијс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4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телесне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в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лазм</a:t>
            </a:r>
            <a:r>
              <a:rPr b="1" lang="sr-Latn-CS" sz="1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брзопокретн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де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теч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нтерстицијск</a:t>
            </a:r>
            <a:r>
              <a:rPr b="1" lang="sr-Latn-CS" sz="1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течнос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Пример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Тм = </a:t>
            </a:r>
            <a:r>
              <a:rPr b="1" lang="sr-Latn-CS" sz="1200" spc="-1" strike="noStrike">
                <a:solidFill>
                  <a:srgbClr val="ff0000"/>
                </a:solidFill>
                <a:latin typeface="Arial"/>
              </a:rPr>
              <a:t>75к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Т. вода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sr-Latn-CS" sz="1200" spc="-1" strike="noStrike">
                <a:solidFill>
                  <a:srgbClr val="ff0000"/>
                </a:solidFill>
                <a:latin typeface="Arial"/>
              </a:rPr>
              <a:t>45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Л: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Ћелијска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вода </a:t>
            </a:r>
            <a:r>
              <a:rPr b="0" lang="sr-Latn-CS" sz="1200" spc="-1" strike="noStrike">
                <a:solidFill>
                  <a:srgbClr val="0000cc"/>
                </a:solidFill>
                <a:latin typeface="Arial"/>
              </a:rPr>
              <a:t>27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Л +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Екстраћелијска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вода </a:t>
            </a:r>
            <a:r>
              <a:rPr b="0" lang="sr-Latn-CS" sz="1200" spc="-1" strike="noStrike">
                <a:solidFill>
                  <a:srgbClr val="0000cc"/>
                </a:solidFill>
                <a:latin typeface="Arial"/>
              </a:rPr>
              <a:t>18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Плазма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000" spc="-1" strike="noStrike">
                <a:solidFill>
                  <a:srgbClr val="006633"/>
                </a:solidFill>
                <a:latin typeface="Arial"/>
              </a:rPr>
              <a:t>2,5</a:t>
            </a:r>
            <a:r>
              <a:rPr b="0" lang="sr-Latn-CS" sz="1000" spc="-1" strike="noStrike">
                <a:solidFill>
                  <a:srgbClr val="006633"/>
                </a:solidFill>
                <a:latin typeface="Arial"/>
              </a:rPr>
              <a:t> – 3,5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Л +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Интерстицијска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вода </a:t>
            </a:r>
            <a:r>
              <a:rPr b="0" lang="sr-Latn-CS" sz="1000" spc="-1" strike="noStrike">
                <a:solidFill>
                  <a:srgbClr val="006633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006633"/>
                </a:solidFill>
                <a:latin typeface="Arial"/>
              </a:rPr>
              <a:t>4</a:t>
            </a:r>
            <a:r>
              <a:rPr b="0" lang="sr-Latn-CS" sz="1000" spc="-1" strike="noStrike">
                <a:solidFill>
                  <a:srgbClr val="006633"/>
                </a:solidFill>
                <a:latin typeface="Arial"/>
              </a:rPr>
              <a:t>,5 – </a:t>
            </a:r>
            <a:r>
              <a:rPr b="0" lang="en-US" sz="1000" spc="-1" strike="noStrike">
                <a:solidFill>
                  <a:srgbClr val="006633"/>
                </a:solidFill>
                <a:latin typeface="Arial"/>
              </a:rPr>
              <a:t>15,5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Раствор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= растварач + растворна супстанциј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смоларнос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(осмолалнос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Осмол = </a:t>
            </a:r>
            <a:r>
              <a:rPr b="0" lang="en-US" sz="1200" spc="-1" strike="noStrike">
                <a:solidFill>
                  <a:srgbClr val="0000cc"/>
                </a:solidFill>
                <a:latin typeface="Arial"/>
              </a:rPr>
              <a:t>Авогадр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број честиц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02 x 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у јединици запремин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Л)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и одговара г-молу од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г-атому супстанциј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Измена састава појединих одељака: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дифузија и осмо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НАТРИЈУМ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Телесни садржај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sr-Latn-CS" sz="17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200</a:t>
            </a:r>
            <a:r>
              <a:rPr b="1" lang="sr-Latn-CS" sz="1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мМ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Дистрибуција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анћелијска течност костију, ткива и циркулација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500" spc="-1" strike="noStrike">
                <a:solidFill>
                  <a:srgbClr val="3b812f"/>
                </a:solidFill>
                <a:latin typeface="Arial"/>
              </a:rPr>
              <a:t>97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еизменљив“  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а+ у костима - </a:t>
            </a:r>
            <a:r>
              <a:rPr b="1" lang="en-US" sz="1500" spc="-1" strike="noStrike">
                <a:solidFill>
                  <a:srgbClr val="3b812f"/>
                </a:solidFill>
                <a:latin typeface="Arial"/>
              </a:rPr>
              <a:t>4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%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елијск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течност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500" spc="-1" strike="noStrike">
                <a:solidFill>
                  <a:srgbClr val="3b812f"/>
                </a:solidFill>
                <a:latin typeface="Arial"/>
              </a:rPr>
              <a:t>3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%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Унос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Елиминација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85-285</a:t>
            </a:r>
            <a:r>
              <a:rPr b="1" lang="sr-Latn-CS" sz="1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мМ/д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Елиминација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. Бубрег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0.125л/мин x 140мМ/л = 17.5мМ/мин x 1440мин = 25200мМ/д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1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д = </a:t>
            </a: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97-9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 од ФО тј. </a:t>
            </a:r>
            <a:r>
              <a:rPr b="1" lang="en-US" sz="1600" spc="-1" strike="noStrike">
                <a:solidFill>
                  <a:srgbClr val="3b812f"/>
                </a:solidFill>
                <a:latin typeface="Arial"/>
              </a:rPr>
              <a:t>1-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 тј.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85-285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М/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. ГИТ и кожа укупно мање од 3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ХИПОНАТРИЈЕМИЈА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8229600" cy="38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ТИОЛОГИЈ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Повећан губит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убулоинтерстицијс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фропати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са губитком со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мена снажних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иуре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И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губитц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ИАД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синдром неадекватног лучења АД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Смање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реапсорпција или уно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b. Addiso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диопатс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хипонатријемија “синдр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олес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ћелије” у рефрактерној срчаној и јетриној  инсуфицијенциј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уготрај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ијет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без со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ХИПОНАТРИЈЕМИЈА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КС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ац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ровањ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водом: умор, анорексија, повраћање, синко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ац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алог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В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хипо-Та, смањен тургор, тахикардија, филиформни пулс,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хиповолемијски шок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, грчев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Times New Roman"/>
              </a:rPr>
              <a:t>осмоларност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плазме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може бити нормална или чак повећана зависно од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интензитет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диурез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Times New Roman"/>
              </a:rPr>
              <a:t>осмоларност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урин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је повећана са најчешће смањеном натриуријом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сем код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Адисонове болест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аузал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сољавање хр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рекција дефицита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Дефицит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[Нормални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мМ/л) - Измерени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мМ/л)] x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6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% т.м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(145мМ/л - 125мМ/л ) x 60% (70кг) = 20 x 42 = 840мМ/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авати у 0.9%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NaC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у два или више размака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створ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NaC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5.8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%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ашков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NaC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ХИПЕРНАТРИЈЕМИЈА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ЕТИОЛОГИЈА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. Појачани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унос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кухињске соли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 (уз оштећену елиминацију?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. Смањена бубре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елиминација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: АБИ, ХБ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. Појачана  бубре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на реапсорпција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-примарни и секундарни 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алдостерониза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. Повећани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губитак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хипотонијске воде-знојењ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Неуношење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вод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КС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Знаци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хиперволемије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: хипертензија, едем мозга: грчеви, конфузија, летаргија, ком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sr-Latn-CS" sz="1300" spc="-1" strike="noStrike">
                <a:solidFill>
                  <a:srgbClr val="000000"/>
                </a:solidFill>
                <a:latin typeface="Arial"/>
              </a:rPr>
              <a:t>абораторија: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хипернатремија, хиперосмоларнос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ТХ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мањен унос на само </a:t>
            </a:r>
            <a:r>
              <a:rPr b="1" lang="en-US" sz="15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1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гр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потпуно “неслан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” хран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иуретиц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емодијализ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КАЛИЈУМ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82818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есни садржа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00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М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истрибу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лијска течност костију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ткив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крви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600" spc="-1" strike="noStrike">
                <a:solidFill>
                  <a:srgbClr val="3b812f"/>
                </a:solidFill>
                <a:latin typeface="Arial"/>
              </a:rPr>
              <a:t>9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ркулациј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600" spc="-1" strike="noStrike">
                <a:solidFill>
                  <a:srgbClr val="3b812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но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лимина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5-15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М/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лимина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убрег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0.125л/мин x 4мМ/л = 0.5мМ/мин x 1440мин =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200мМ/д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1/2д = </a:t>
            </a:r>
            <a:r>
              <a:rPr b="1" lang="sr-Latn-CS" sz="1600" spc="-1" strike="noStrike">
                <a:solidFill>
                  <a:srgbClr val="ff3300"/>
                </a:solidFill>
                <a:latin typeface="Arial"/>
              </a:rPr>
              <a:t>12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!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 + ТС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98-9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 од ФО тј. </a:t>
            </a:r>
            <a:r>
              <a:rPr b="1" lang="en-US" sz="1600" spc="-1" strike="noStrike">
                <a:solidFill>
                  <a:srgbClr val="3b812f"/>
                </a:solidFill>
                <a:latin typeface="Arial"/>
              </a:rPr>
              <a:t>1-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 тј.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 55-15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М/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И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мање од </a:t>
            </a:r>
            <a:r>
              <a:rPr b="1" lang="en-US" sz="1600" spc="-1" strike="noStrike">
                <a:solidFill>
                  <a:srgbClr val="3b812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 укупно унетог К</a:t>
            </a:r>
            <a:r>
              <a:rPr b="0" lang="sr-Latn-C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ХИПОКАЛИЈЕМИЈА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88640"/>
            <a:ext cx="82296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ЕТИОЛОГИЈА: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Смањен унос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‘’чист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 супстанц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’’ у исхрани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Повећани губиц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ГИТ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губици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: проливи, фистуле, вилусни аденом,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Бубрежн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губици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хипералдостеронизам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,  калиуретиц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КС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Неуромишићн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знаци: мишићна слабост до парализе, респираторна парализа, губитак тетивних  рефлекс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ЕКГ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:  продужење Q-Т, смањење висине Т таласа, појава У таласа, ВЕ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Калипенијска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нефропатиј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: полиурија, полидипсија, калиуриј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. Храна богата калијумом: поморанџа </a:t>
            </a:r>
            <a:r>
              <a:rPr b="0" lang="en-US" sz="1500" spc="-1" strike="noStrike">
                <a:solidFill>
                  <a:srgbClr val="006633"/>
                </a:solidFill>
                <a:latin typeface="Arial"/>
              </a:rPr>
              <a:t>1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мМ, парадајз и банана </a:t>
            </a:r>
            <a:r>
              <a:rPr b="0" lang="en-US" sz="1500" spc="-1" strike="noStrike">
                <a:solidFill>
                  <a:srgbClr val="3b812f"/>
                </a:solidFill>
                <a:latin typeface="Arial"/>
              </a:rPr>
              <a:t>2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м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. Парентералн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и пероралн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а надокнад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3300"/>
                </a:solidFill>
                <a:latin typeface="Arial"/>
              </a:rPr>
              <a:t>Дефицит</a:t>
            </a:r>
            <a:r>
              <a:rPr b="0" lang="en-US" sz="15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[Нормални К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(мМ/л) - Измерени К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(мМ/л)] x </a:t>
            </a:r>
            <a:r>
              <a:rPr b="1" lang="sr-Latn-CS" sz="15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% т.м.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: (5мМ/л - 2.5мМ/л ) x 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% (70кг) = 2.5 x 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.5мМ/д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авати у 5% гликози моларни  раствор 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KCl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cc"/>
                </a:solidFill>
                <a:latin typeface="Arial"/>
              </a:rPr>
              <a:t>7.5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 или м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оларн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праш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KC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ХИПЕРКАЛИЈЕМИЈА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17656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ТИОЛОГИЈА: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ањена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бубреж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лиминациј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иуретици који штеде калијум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, ACEI, Ag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АБИ, ХБ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Повећа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бубрежна реапсорпциј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b. Addis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дистрибуциј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хемолиза, краш синдром, ацидо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КС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К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ромене: висок Т талас, губитак таласа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депресија,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А-V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лок,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застој срца у 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дијастоли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уромишић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касне манифестације у виду малаксалости и парестез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0:53:07Z</dcterms:created>
  <dc:creator>User</dc:creator>
  <dc:description/>
  <dc:language>en-US</dc:language>
  <cp:lastModifiedBy>Administrator</cp:lastModifiedBy>
  <dcterms:modified xsi:type="dcterms:W3CDTF">2015-08-30T13:59:57Z</dcterms:modified>
  <cp:revision>63</cp:revision>
  <dc:subject/>
  <dc:title>HIPOGLIKEMIJSKI SINDROM</dc:title>
</cp:coreProperties>
</file>