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5F2-E34E-4D17-88C4-497FC603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EEC-EDF5-410B-B43C-FB283D08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81B-5164-479B-AD73-18A63C80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E02-1EB0-4070-AF0B-D4DA6C96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49A9C-8927-4FCE-8DBA-84485E26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37F6D-A207-4C3A-A1CF-D7E43594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873F3-E0B6-4C4A-9C8E-1D9901CE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DDD33-7C2F-4328-BDEE-E7A24E6E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134EB-B070-42C4-A778-1068D038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3F17F-162D-45F8-B2F1-FCEE9741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03140-8706-49FA-BC11-9044ACBD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20E-9887-4368-B860-BC8E476C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6FB18-EC7F-485F-B5BE-C73EC330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CF1F8-2F33-4E60-83F1-2ABB37D7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30FD1-344B-41DE-B5A5-A0E5F5D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15895-2909-4EAB-BE47-C6F757D1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59012-27D7-4C5A-A1D9-98419256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433CF-73CD-441F-AE28-2269347A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82F1-ABDA-4763-9925-01136AC6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6B79-52DD-428C-ABF0-42C2A924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2DE9-BF4C-451A-A24E-000EA297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830E-D8B4-471E-AFE1-5DD6AEEE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511-4833-4192-9445-63B9F697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E19F-8F34-4856-8E25-AD4D2988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CB68-89FD-4C37-ADA6-86B6BB14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4BDB-40C9-4AB0-8CBD-B84D0CF4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A048-8B86-4173-A11A-DE656B3E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CE3D-66E8-4AE1-9778-4C97089F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9604-7748-412B-85DF-4366BA4E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6BBF5-64F1-4F41-8CFD-EA4D4BA0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8230F-EB32-4CDA-B3BC-CDC27584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54589-9B60-4E47-BC7B-279B0887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FE08C-8110-4235-812F-678CCF2B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91D-40C5-4D98-A5F5-7DC09DD3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A04DA-8EC1-4D66-82F9-D37517AE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05C611-980D-4A67-B642-4614C593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BC049-6568-44D4-A0B4-C81EEEBE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57BE1-BE25-43B6-A452-C85C532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6E165-F8CC-46F2-AE4E-6842C963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EAFC6-F4A0-465D-9D58-4474542C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6AB4D-5A32-4045-8A0A-91461DC7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B9E684-A69E-4EFC-9E12-C58408CC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452F73-5744-4D74-9D98-640E4FA8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B06-4BAA-4123-8A61-EA9DBB71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546-E633-4ABD-BFF1-CD8D40C2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00B-C00A-47ED-A7A1-5A69A0A8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84B-603D-40B2-A9C1-7F1CD98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0FB-7F26-48A6-817C-C0286E68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9B04-16C1-43B2-AF9B-971C06CD1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E68E-8205-43E3-863B-4BE1E83EF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DFBA-E1EC-4412-AAA3-E8D74D672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34E4-909C-4018-A7C9-08971206F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Дијагностика бубрежних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Проф. Др Радојица Стол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Факултет медицинских наука Крагујева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cc"/>
                </a:solidFill>
                <a:latin typeface="Calibri"/>
              </a:rPr>
              <a:t>Клинички преглед болесн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0508" descr=""/>
          <p:cNvPicPr/>
          <p:nvPr/>
        </p:nvPicPr>
        <p:blipFill>
          <a:blip r:embed="rId1"/>
          <a:srcRect l="0" t="32583" r="16126" b="0"/>
          <a:stretch/>
        </p:blipFill>
        <p:spPr>
          <a:xfrm>
            <a:off x="2478240" y="857160"/>
            <a:ext cx="3450960" cy="369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Палпација бубре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cc"/>
                </a:solidFill>
                <a:latin typeface="Calibri"/>
              </a:rPr>
              <a:t>Клинички преглед болесн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0509" descr=""/>
          <p:cNvPicPr/>
          <p:nvPr/>
        </p:nvPicPr>
        <p:blipFill>
          <a:blip r:embed="rId1"/>
          <a:srcRect l="0" t="21875" r="0" b="2187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Перкусија бубре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cc"/>
                </a:solidFill>
                <a:latin typeface="Calibri"/>
              </a:rPr>
              <a:t>Клинички преглед болесн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0510" descr=""/>
          <p:cNvPicPr/>
          <p:nvPr/>
        </p:nvPicPr>
        <p:blipFill>
          <a:blip r:embed="rId1"/>
          <a:srcRect l="0" t="21875" r="0" b="2187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Аускултација бубре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cc"/>
                </a:solidFill>
                <a:latin typeface="Calibri"/>
              </a:rPr>
              <a:t>КЛИНИЧКО ИСПОЉАВАЊЕ БОЛЕСТИ БУ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98989"/>
                </a:solidFill>
                <a:latin typeface="Calibri"/>
              </a:rPr>
              <a:t>Дијагностика бубрежних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428760"/>
            <a:ext cx="4038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Поремећај мокрења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изурија (отежано и болно мокрењ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лакисурија (учестало мокрење мање количине мокраћ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иктурија (буђење ноћу због потребе мокрењ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нконтиненција (немогућност контролисања мокрењ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Енуреза (неконтролисано мокрење током сн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428760"/>
            <a:ext cx="4038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омена у запремини мокраћ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иурија (физиолошка због повећаног уноса, диуретик, ДМ, инсипидни дијабетес, губитак концентрационе способности бубрег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лигурија (смањен унос течности, повећан унос соли, знојење, механичка опструкциј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ур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cc"/>
                </a:solidFill>
                <a:latin typeface="Calibri"/>
              </a:rPr>
              <a:t>Промена боје мокраћ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Безбојан ури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dijabetes insipidu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лечно бела бој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преципитовани фосфати, пиурија, масне кап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Жута бој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билирубин, нитрофурантоин, сулфасалазин, уробилин, рибофлавин, уноше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превише витами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аранџасти ури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дехидратација, преслана храна, циста или тумор ж.кесице, жут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лави и розе ури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храна, леко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Зелени ури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инфекција уротракта, Паркинсон, антидепреси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међе-црвена бој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меланин, метилдопа, порфобилин, метронидазол, кинин, карцин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лаво-зелена бој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инфекција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seudomonas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ом, биливердин, метилен плав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Љубичасти ури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порфир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Браон или црн урин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(лаксати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0000cc"/>
                </a:solidFill>
                <a:latin typeface="Calibri"/>
              </a:rPr>
              <a:t>Бол као симптом бубрежних болест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7120" y="1143000"/>
            <a:ext cx="8501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Бубрежна колика,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аћена учесталим мокрењем, хематуријом, муком и повраћањем, често са знацима паралитичког илеус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Локализација бола указује на локализацију каме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пала мокраћне бешике (супрапубични болови, дизуричне сметње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ГНФ (потмули, обострани болови у лумбалним ложама, праћени тамном мокраћом, благим едемима, главобољом, ХТ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ТУ (једнострани или обострани болови, дизуричне сметње, повишена температур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Тупи, трајни болови у лумбалном пределу, праћени високом температуром, изразитом осетљивошћу бубрежних ложа (понекад црвенило и оток коже) знак су перинефритиса, запаљења бубрега или перинефритичког апсцес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cc"/>
                </a:solidFill>
                <a:latin typeface="Calibri"/>
              </a:rPr>
              <a:t>Клиничко испољавање </a:t>
            </a:r>
            <a:r>
              <a:rPr b="1" lang="en-US" sz="3300" spc="-1" strike="noStrike">
                <a:solidFill>
                  <a:srgbClr val="0000cc"/>
                </a:solidFill>
                <a:latin typeface="Calibri"/>
              </a:rPr>
              <a:t>бубрежних</a:t>
            </a:r>
            <a:r>
              <a:rPr b="1" lang="sr-Latn-CS" sz="3300" spc="-1" strike="noStrike">
                <a:solidFill>
                  <a:srgbClr val="0000cc"/>
                </a:solidFill>
                <a:latin typeface="Calibri"/>
              </a:rPr>
              <a:t> болест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Едем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бубрежног порекла јављају се или због протеинурије или због смањења гломерулске филтрације или ређе због опструкције мокраћних путева, по правилу су на очним капцима, лицу или на екстремитетима и телу; бледи су, топли и тестасти, нису подложни утицају гравитације па се, обично, примете изјут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мптоми и знаци уремијског синдрома (</a:t>
            </a:r>
            <a:r>
              <a:rPr b="0" i="1" lang="sr-Latn-CS" sz="2500" spc="-1" strike="noStrike">
                <a:solidFill>
                  <a:srgbClr val="000000"/>
                </a:solidFill>
                <a:latin typeface="Calibri"/>
              </a:rPr>
              <a:t>Kussmau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ово дисање, уремијски задах, хеморагијски синдром, грчеви, најчешће у потколеницама, понекад и генерализовани, поремећај свести од сомноленције, преко сопора до ком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cc"/>
                </a:solidFill>
                <a:latin typeface="Calibri"/>
              </a:rPr>
              <a:t>ИСПИТИВАЊЕ БУБРЕЖНИХ ФУН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98989"/>
                </a:solidFill>
                <a:latin typeface="Calibri"/>
              </a:rPr>
              <a:t>Дијагностика бубрежних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ИСПИТИВАЊЕ ФУНКЦИЈЕ ГЛОМЕР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cc"/>
                </a:solidFill>
                <a:latin typeface="Calibri"/>
              </a:rPr>
              <a:t>Испитивање бубрежних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Анатомија бубре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убрези су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ран ретроперитонеални орган смештени у слабинском делу, непосредно уз кичмени сту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а бубрега су својим медијалним деловима приљубљена уз бок кичменог стуба (у висини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рудног,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лабинског пршљен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сни бубрег је за половину висине пршљенског тела ниже постављ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тојање између горњих полова бубрега је 7-8 цм, а између доњих око 12 ц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убрези у дужину достижу 10-12 цм, у ширину 5-6 цм, а њихова дебљина је 3-4 ц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жина једног бубрега износи 120-200 г (леви бубрег је код оба пола нешто дужи и веће масе од десно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Испитивање функције гломер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ачина бубрежног протока плазме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ера којом се целокупна количина неке супстанције, у јединици времена, излучи урино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АХ (?)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злучује се ГФ и активном Т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отопске методе; 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i="1" lang="sr-Latn-CS" sz="2200" spc="-1" strike="noStrike">
                <a:solidFill>
                  <a:srgbClr val="000000"/>
                </a:solidFill>
                <a:latin typeface="Calibri"/>
              </a:rPr>
              <a:t>I-hipurat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ормална ЈБПП је 625</a:t>
            </a:r>
            <a:r>
              <a:rPr b="1" lang="sr-Latn-CS" sz="2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libri"/>
              </a:rPr>
              <a:t>ml/min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ачина ГФ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лиренс инулина (филтрује се у гломерулима а не реабсорбује нити екскретује у тубулим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лиренс креатинина (излучује се у гломерулима, незнатно секретује у проксималним тубулима 20% веће вредности од реалних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Радионуклеидне методе (изотопски обележени егзогени маркер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Методе мерења ЈГ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иренс неке супстанце се дефинише као запремина плазме из које се у јединици времена потпуно oдстрани та супста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 је однос концентрације те супстанце излучене мокраћом у јединици времена  и концентрације те супстанце у плазм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иренси се израчунавају формулом: U x V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стоји више од 40 формули на бази креатинина/цистатина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ockcroft-Gaul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формула (прикладна је за одрасле, лако се процењује ЈГФ)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D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odification of Diet in Renal Diseas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формула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KD EPI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pidemiology Collaboratio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формула (практична код одраслих са ХББ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Формуле у којима се користи Цистатин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у распону од 70-40) процењује се ЈГФ боље него формулама у којима се користи креатини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4"/>
          <p:cNvSpPr/>
          <p:nvPr/>
        </p:nvSpPr>
        <p:spPr>
          <a:xfrm>
            <a:off x="5214960" y="2714760"/>
            <a:ext cx="642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Недостаци формула за еГФР израчунавањ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су поуздани код болес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а ЈГФ изнад 60 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</a:rPr>
              <a:t>ml/min/1,73 m</a:t>
            </a:r>
            <a:r>
              <a:rPr b="0" i="1" lang="vi-V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а брзим променама серумског креатинина (АБ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а променама у мишићној маси (кахексија, параплег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лађих од 18 год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Стања у којима се мења ГФР а нема обољења бу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удно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ипоперфузија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ишак или мањак екстраћелијске те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стероидни антиреумат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елики унос проте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лик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вни притисак и поједин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тихипертенз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Стања која доводе до промене креатинина и могуће погрешне процене ГФ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5840" y="1285920"/>
          <a:ext cx="8572320" cy="542916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1069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њ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фекат на  серумски креати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81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тоацидоза, унос меса, лекови који инхибирају тубулску секрецију креатинина (циметидин, триметоприм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пстанце које се мере као креатинин: ацетат, лекови (цефокситин, флуцитозин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ћавај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278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ење мишићне масе праћене кахексијом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уј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Клиренс уре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ренс уреје нема сталну вредност (зависи од диурезе, што је диуреза већа, клиренс уреје је већи и обрнут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ренс уреје варира између 30-90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ml/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д изражене бубрежне инсуфицијенције распон диурезе се смањује па клиренс уреје мање вари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ренс уреје није добро мерило у ХБИ (уреја није добар параметар бубрежне функциј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alibri"/>
              </a:rPr>
              <a:t>Стања која доводе до промене концентрације уре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14200" y="1357200"/>
          <a:ext cx="8715600" cy="526896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њ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фекат на концентрацију уреј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6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ћавај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сок унос протеина, крвављење из дигестивног тракта, кортикостероиди, траума ткива, тетрациклини, температура, дехидратација, трудноћ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43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ењују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скопротеинска дијета, обољење јетре, хиперхидратациј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0" y="15840"/>
          <a:ext cx="9144000" cy="7155000"/>
        </p:xfrm>
        <a:graphic>
          <a:graphicData uri="http://schemas.openxmlformats.org/drawingml/2006/table">
            <a:tbl>
              <a:tblPr/>
              <a:tblGrid>
                <a:gridCol w="824040"/>
                <a:gridCol w="1349280"/>
                <a:gridCol w="3524040"/>
                <a:gridCol w="3446640"/>
              </a:tblGrid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ФА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ХБ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ЈГФ</a:t>
                      </a:r>
                      <a:r>
                        <a:rPr b="1" lang="sr-Latn-C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12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(ml/min/1.73 m</a:t>
                      </a:r>
                      <a:r>
                        <a:rPr b="1" lang="sr-Latn-CS" sz="1200" spc="-1" strike="noStrike" baseline="30000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sr-Latn-CS" sz="12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КЛИНИЧКЕ МАНИФЕСТ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ТЕРАПИЈСКИ ПОСТУПЦ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Нормална бубрежна функција са одређеним уринарним абнормалностим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хипертензија није ретка манифестациј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матрање и контрола артеријског прит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Благо мањена бубрежна функција са одређеним уринарним абнормалностима-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ТА, је честа манифестација као и умерен пораст нивоа ПТ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нтрола артеријског прит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4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мерено смањена бубрежна функција</a:t>
                      </a:r>
                      <a:r>
                        <a:rPr b="0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на ХТА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орена апсорпција калцијума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о излучивање фосфата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очљив је пораст концентрације ПТХ, поремећај метаболизма липида, изражена анемија, хипертрофија леве комор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а и лечење компликациј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натно умањена бубрежна функциј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много јаче изражени сви горе наведени симптоми са израженом метаболичком ацидозом, хиперкалиемија, смањен либид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рема за надокнаду бубрежних функциј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4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линички манифестна уремија</a:t>
                      </a:r>
                      <a:r>
                        <a:rPr b="0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 горе наведени симптоми са ретнцијом соли и воде што води ка срчаном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застоју, анорексијиа, повраћање, прурити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а депурациона терап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ИСПИТИВАЊЕ ФУНКЦИЈЕ ТУБ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cc"/>
                </a:solidFill>
                <a:latin typeface="Calibri"/>
              </a:rPr>
              <a:t>Испитивање бубрежних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ункције интерстицију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85840" y="1143000"/>
          <a:ext cx="8643960" cy="5405400"/>
        </p:xfrm>
        <a:graphic>
          <a:graphicData uri="http://schemas.openxmlformats.org/drawingml/2006/table">
            <a:tbl>
              <a:tblPr/>
              <a:tblGrid>
                <a:gridCol w="8643960"/>
              </a:tblGrid>
              <a:tr h="264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не функције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нотежа електрол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анс течности/волу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олалност серума/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до-базна равнотежа (транспорт хлорида, регенерација бикарбоната, стварање амонијум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таболизам фосф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ективна ресорпција проте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>
                        <a:alpha val="74000"/>
                      </a:srgbClr>
                    </a:solidFill>
                  </a:tcPr>
                </a:tc>
              </a:tr>
              <a:tr h="75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боличке функције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конеоген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68000"/>
                      </a:srgbClr>
                    </a:solidFill>
                  </a:tcPr>
                </a:tc>
              </a:tr>
              <a:tr h="20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монске функције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таболизам витамина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ропоез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гулација крвног притиска (ренин-ангиотензин-алдостерон систем, ендотелини, простагландин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32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Нефр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 морфофункционална и секреторна јединица бубрега је нефр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брег се састоји од 1-4 милиона нефр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фрони су изграђени из  бубрежних телаша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corpusculum renali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бубрежних цевчи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tubuli ren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 својој локализацији, грађи и дужини петљи разликују се два основна типа нефрона (кортикални и јукстамедулар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фрони чији се гломерули налазе у унутрашњој трећини коре бубрега називају се јукстамедуларним, они су дужих петљи у односу на кортикалне нефроне који леже у спољашње две трећине реналне к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Испитивање тубулских фун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убулске функ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ликозурија, реапсорпција аминокиселина, репсорпција фосфата, излучивања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(90-99% воде се реапсорбује у тубулима и одговарајућа количина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, клиренс литијума (у проксималним тубулима се реапсорбује),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микроглобулин (филтрује се у гломерулима а реапсорбује у проксималним тубулим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центрациона способност бубре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а жеђања, не дуже од 16-20 сати не пити воду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ана храна са доста протеина) осмоларитет урина ј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69-1309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mOsm/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нтрациона способност бубрега се испитуј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азопресином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кон 8 сати осмоларитет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0-1150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mOsm/l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Ензиму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нзими са м.т. мањом од 60.000 филтрују се у гломерулима и реапсорбују у проксималним тубулима, ако су у вишку могу се појавити у ури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окализација ензима у ћелијама и њихова појава у урину указује на место лез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итивање стварања јона водо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ењем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краће, мерење концентрације бикарбоната у плаз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стемска ацидоз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мокраће мањи од 5,3 искључује дефект у тубулској секрецији јона водо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ење концентрације бикарбоната у плазми и pH мокраћ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Метаболичка ацидоза се на почетку не манифестује смањењем pH крви већ смањењем бикарбона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Ако је концентрација бикарбоната мања од 20 mmol/L тада је наредна анализа мерење pH ур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мањена концентрација бикарбоната у плазми уз pH урина већи од 5,5 показује да је ацидоза последица оштећења закишељавања мокраћ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спитивање концентрационе способности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пецифична густина мокраћ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дређивање осмотске концентрације (јутарњи урин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смотска концентрација већа од 800 mOsm/L искључује тубулски дефект за концентрацију ури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Концентрациона способност се одређује пробом жеђања (16-24 сати не уноси  течност уз нормално слану мешовиту исхрану-а; 869-1309 mOsm/L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Концентрациона способност се може проценити sc.вазопресином а 8 сати након тога мери се осмотска концентрација урина (750-1150 mOsm/L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оследице тубулоинтерстицијумских боле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2920" y="428760"/>
          <a:ext cx="8929800" cy="6413400"/>
        </p:xfrm>
        <a:graphic>
          <a:graphicData uri="http://schemas.openxmlformats.org/drawingml/2006/table">
            <a:tbl>
              <a:tblPr/>
              <a:tblGrid>
                <a:gridCol w="4098960"/>
                <a:gridCol w="4830840"/>
              </a:tblGrid>
              <a:tr h="47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емећај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роц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5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ена јачина гломерулске филтр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итерација микроваскулатуре и опструкција туб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nconi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емећај проксималне тубулске реапсорпције глукозе, аминокиселина, фосфата и бикарбон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ерхлоремијска ацид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ена продукција амониј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могућност ацидификације течности у сабирним тубулима (дистална ренална тубулска ацидоз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битак бикарбоната проксималним тубул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теинурија тубулског 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пособност реапсорпције протеина у проксималним тубул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иурија, никтурија, изостенур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штећење тубула и крвних судова меду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еркали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екти секреције калијума, резистенција на алдостер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7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итак с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ећење дисталних тубула са нарушеном реапсорпцијом натриј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адекватна продукција еритропоет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14200" y="142920"/>
          <a:ext cx="8715600" cy="6512040"/>
        </p:xfrm>
        <a:graphic>
          <a:graphicData uri="http://schemas.openxmlformats.org/drawingml/2006/table">
            <a:tbl>
              <a:tblPr/>
              <a:tblGrid>
                <a:gridCol w="4038840"/>
                <a:gridCol w="4676760"/>
              </a:tblGrid>
              <a:tr h="9237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ндардни преглед мокраће (квалитативни и квантитативни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ле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фична тежи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256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ијски преглед мокраћ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ротеини, глукоза, кетони, хемоглоб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билиноген, билирубин, нитрити, леукоц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256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ско испитивањ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истали: урати, калцијум фосфати, оксалати, леков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тивни микроорганизми: бактерије, гљиве, трихомонас, немат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0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Ћелије: ле, ер, тубул.овална масна тела,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ло: сперматозоиди, делови слузокоже, влакна, скроб, длака,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29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линдри: хијалини, гранулирани, еритроцитни, леукоцитни, тубуларних ћелија, воштани, са липидним кап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Дијагностички поступци</a:t>
            </a:r>
            <a:r>
              <a:rPr b="1" lang="sr-RS" sz="4400" spc="-1" strike="noStrike">
                <a:solidFill>
                  <a:srgbClr val="0000cc"/>
                </a:solidFill>
                <a:latin typeface="Calibri"/>
              </a:rPr>
              <a:t> анализе у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Беланчевине у урину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Квалитативно (сулфосалицилном киселином, кувањем, тест тракам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Квантитативно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Biuret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Esbach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Уробилиноге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Гликозуриј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Кетонска тел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Хематуриј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При микроскопском прегледу седимента урина могу се у њему наћи бактерије, гљивице или сперматозоид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Бактериолошко испитивање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UK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Урин на Левенштајн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PCR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Дијагностички поступ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рин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течна биопсија бубрега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ја(бистра, светло-жута): црвена боја (хематурија-еритроцити, хемоглобинурија-повишен Хгб, миоглобинурија-оштећење мишића), порфирија, употреба лекова и уношење одређене хра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ирис (амонијакалан мирис, устајали мирис, мирис гњилог воћ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личина (1200-2000 </a:t>
            </a:r>
            <a:r>
              <a:rPr b="0" i="1" lang="sr-Latn-CS" sz="27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/24</a:t>
            </a:r>
            <a:r>
              <a:rPr b="0" i="1" lang="sr-Latn-CS" sz="27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Хематур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линички значај хематурије огледа се у промени облика еритроц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межурани пролазе ГБ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вежи настају у дисталним партијама мокраћних пут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Седимент мокра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libri"/>
              </a:rPr>
              <a:t>епителне ћелиј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(из површног епителног слоја мокраћних путев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libri"/>
              </a:rPr>
              <a:t>леукоцити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(већина су ПМН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libri"/>
              </a:rPr>
              <a:t>еритроцити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(бубрежног или ванбубрежног порекл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libri"/>
              </a:rPr>
              <a:t>цилиндри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(одливци тубула): хијалини-код сваке протеинурије, гранулисани-протеинска супстанца и дегенерисане тубулске ћелије, еритроцитни-доказ су да је крвављење бубрежног порекла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укоцитни-доказ запаљењског оштећења епитела тубул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оштани-настају у патолошки проширеним тубул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42920" y="162000"/>
          <a:ext cx="4357800" cy="657540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бораторијски мониторинг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5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омерулска протеинурија (албумини и микроалбуминуриј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тна тубулска протеинур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онична тубулска протеинур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ена протеинурија, нитрити, ле естеразе, ле (неутрофили), цилиндри (ле, бакетријски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6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а протеинурија,</a:t>
                      </a:r>
                      <a:r>
                        <a:rPr b="0" lang="sr-Latn-R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булске епителне ћелије, цилиндри епителних ћелија, гранулирани, воштани, хијалин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9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а протеинур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91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атурија (еритроци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оглоб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3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оглоб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645080" y="142920"/>
          <a:ext cx="4284720" cy="6602400"/>
        </p:xfrm>
        <a:graphic>
          <a:graphicData uri="http://schemas.openxmlformats.org/drawingml/2006/table">
            <a:tbl>
              <a:tblPr/>
              <a:tblGrid>
                <a:gridCol w="4284720"/>
              </a:tblGrid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нички знача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60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бумини се физиолошки ноћу мање излучују (нижа ТА и ГФ); Микроалбуминурија (код ДМ и КВБ) показује ране комплик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шки метаб. порем (ак.панкреатитис, опекотине, нефротоксични леков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онични ПНФ, системске болести(саркоидоза, цироз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тни П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тна тубулска некр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НФ, ПББ, тубулски поремећаји, инфекције доњих партија уринарног тракта и беш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кулоза, бенигни и малигни тумори  бубрега и м.бешике, ГНФ, ПНФ, ИТИ, ПБ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олиз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2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домиоли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АНАМНЕЗА БОЛЕСНИКА СА БУБРЕЖНИМ БОЛЕСТ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98989"/>
                </a:solidFill>
                <a:latin typeface="Calibri"/>
              </a:rPr>
              <a:t>Дијагностика бубрежних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214200" y="222120"/>
          <a:ext cx="4283280" cy="6332760"/>
        </p:xfrm>
        <a:graphic>
          <a:graphicData uri="http://schemas.openxmlformats.org/drawingml/2006/table">
            <a:tbl>
              <a:tblPr/>
              <a:tblGrid>
                <a:gridCol w="4283280"/>
              </a:tblGrid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бораторијски мониторинг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укоцитна естераз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икозуриј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тонска те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0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лируби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мфоцити, еозинофил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пителне ћелиј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пидуриј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линд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8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иста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645080" y="214200"/>
          <a:ext cx="4284720" cy="6353280"/>
        </p:xfrm>
        <a:graphic>
          <a:graphicData uri="http://schemas.openxmlformats.org/drawingml/2006/table">
            <a:tbl>
              <a:tblPr/>
              <a:tblGrid>
                <a:gridCol w="4284720"/>
              </a:tblGrid>
              <a:tr h="43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нички знача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теријска инфек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1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М (хипергликемиј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контролу метаболичких процеса (више него за контролу бубрежних функција код ДМ, гладовања, или када се из исхране елиминишу угљени хидра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.и хронични хепатитис, цироза јетре, холестаза, холангитис, холециститис и друга хепатоцелуларна обољењ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бацивање трансплантаираног бубрега, АТИН и ХТ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У, након катетеризације бешике, неоплазма, радиотерап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, слободне масне кап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одинамске промене у бубрезима, акутне или активне бубрежне болести, ГНФ, ТИН, ак.туб.некроза, нефротоксичне супстан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9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ложе се када је концентрација соли већа од прага растворљив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6840" y="145800"/>
            <a:ext cx="4040280" cy="6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фритички седи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928440"/>
            <a:ext cx="4040280" cy="40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173160" indent="-173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Црвена, браон или замућена мокраћ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зитиван тест на хемоглобин и протеин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Еритроцити и ер.цилиндри (понекад и гранулирани и хијалини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Ово је тзв. ”активан седимент”, корелира са биоптичким налазом пролиферације, ле.инфилтрације, налазом полумесеца и поља некроз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4720" y="142560"/>
            <a:ext cx="4041720" cy="6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фротски седи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928440"/>
            <a:ext cx="4041720" cy="40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Светла или жућкаста боја ури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ротеинурија преко 3,5 гр и липидурија и блага микрохематуриј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Хијалини и ле цилиндри, овална масна тел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Ово је тзв. ”оскудан, благ или бениган седимент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Ретки ер.цилиндри и тубуларне ћел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072040"/>
            <a:ext cx="8286480" cy="1714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428760" y="5000760"/>
            <a:ext cx="8286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Хронични седимент: Прогресивна болест гломерула се карактерише фиброзом, седимент је мање абнормалан, смањује се протеинурија, хематурија, пиурија и цилиндрури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У ПНФ ле. цил.са бактеријама; У инф.доњих м.пут.ле. цил. нем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У АТН туб.ћелије, туб.и гранулирани цилиндр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ПОРЕМЕЋАЈ ВОДЕ И ЕЛЕКТРОЛИ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cc"/>
                </a:solidFill>
                <a:latin typeface="Calibri"/>
              </a:rPr>
              <a:t>Испитивање бубрежних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Проценат телесне в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2920" y="1143000"/>
          <a:ext cx="8929800" cy="5614920"/>
        </p:xfrm>
        <a:graphic>
          <a:graphicData uri="http://schemas.openxmlformats.org/drawingml/2006/table">
            <a:tbl>
              <a:tblPr/>
              <a:tblGrid>
                <a:gridCol w="2232000"/>
                <a:gridCol w="2233440"/>
                <a:gridCol w="2232000"/>
                <a:gridCol w="2232360"/>
              </a:tblGrid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уме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Т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 кг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0 кг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а телесн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6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раћелијск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6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страћелијск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4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стицијумск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4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раваскуларн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Равнотежа воде у организ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85840" y="1000080"/>
          <a:ext cx="8572320" cy="5643720"/>
        </p:xfrm>
        <a:graphic>
          <a:graphicData uri="http://schemas.openxmlformats.org/drawingml/2006/table">
            <a:tbl>
              <a:tblPr/>
              <a:tblGrid>
                <a:gridCol w="1857240"/>
                <a:gridCol w="1571760"/>
                <a:gridCol w="1643040"/>
                <a:gridCol w="1214280"/>
                <a:gridCol w="1143000"/>
                <a:gridCol w="1143000"/>
              </a:tblGrid>
              <a:tr h="622440"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ос (мл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убитак (мл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њ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0300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 у течном обли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-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ц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23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 из хр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-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ућ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325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боличк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-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о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24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-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Осмолалност и осмотска равнот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Осмолалност течности је концентрација свих растворених материја у њо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Осмотска равнотежа се успоставља проласком воде кроз ћелијску мембран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ромене у серумској осмолалности покрећу течност у ћелијама и изван њих и утичу на функцију и волумен ћел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Главне екстрацелуларне честице су 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HCO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док су 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и органски фосфати (АТП, креатин-фосфат и фосфолипиди) доминантни у интрацелуларној теч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Осмолалност и осмотска равнот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омене количине воде у организму се клинички манифестују као хипернатремија и хипонатрем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омене концентрације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се клинички манифестују као поремећаји количине ИЦТ, ЕЦТ и ИВ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нос воде се одвија преко механизма жеђи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ј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астаје преко осморецептора у хипоталамусу које стимулише пораст концентрације растворених материја у плазм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Елиминација воде одвија се путем урина, столице и испаравањем - преко коже и респираторног тра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Осмолалност и осмотска равнот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убрежна екскреција воде: аргинин-васопресин или антидиуре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и хормон се синтетише у хипоталамусу, а излучује га задњи режањ хипофи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 дисталним тубулима проузрокује реапсорпцију воде из лумена дисталног тубу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Главни стимулус за секрецију АДХ је хиперосмоларност екстрацелуларне течности која доводи до промена волумена осморецепторских ћелија хипоталамуса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раг за лучење АДХ је 280 - 290 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mOsm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овол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овећана филтрација осмотски активних материја (глукозе, манитола и уреје, недостатак алдостерона,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diabetes insipidu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дијареја и повраћање, фебрилност, хипервентилација, топлотни удар, физички напор, секвестрација воде у "трећи простор“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) доводи до хиповолем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Хиповолемија и хипотензија, преко барорецептора, доводе до констрикције аферентних артериол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овећ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активности система ренин-ангиотензин-алдостерон, што смањује гломеруларну филтраци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Ангиотензин II и алдостерон повећавају реапсорпцију натрију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Клиничка слика хиповол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е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мањен тургор коже, суве слузокож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лабост, грчеви мишића, бол у стомаку и груд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стурална хипотензија и тахикардиј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лабљен пулс в.југулар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иповолемијски шок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бледи и хладни екстремитети, цијаноза, олигурија, хипотензија, тахикардија, конфузија, ступор, к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те однос уреа/креатин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авља се метаболичка ацидоза или алкал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ематокрит је сниж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к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центрација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и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молалност и спец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фич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тежина урина су високе, осим када је узрок хиповолемије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diabetes insipi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Calibri"/>
              </a:rPr>
              <a:t>Анамнеза болесника са бубрежним болест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нову дијагнозе ББ чини правилно прикупљање свих релевантних података (аутоанамнеза и хетероанамнез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ажно је утврдити ток болести (акутна или хронична форм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ажне су информације о ноћном умокравању или честим ИУТ у детињству (аномалије мокраћних канала), инфекције горњих дисајних путева или коже (постинфективни ГНФ или хронични ГНФ), о наглој појави ХТА у раној младости (реноваскуларна ХТ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нтибиотик или унос новог лека може условити различите форме ТИН, а дуготрајна употреба аналгетика аналгезичну нефропатиј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еке хроничне болести (ХТА, ДМ) могу бити узрок ХБ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стемске болести везивног ткива могу допринети развоју БИ, као и ТБЦ, РА, гихт, ММ, гојазност, опструктивна болест уринарног тракт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cc"/>
                </a:solidFill>
                <a:latin typeface="Calibri"/>
              </a:rPr>
              <a:t>Терапија </a:t>
            </a: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овол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докнад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оде, оралним путем или и.в. 0.9%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, 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ешким случајевима 0.45%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да је хиповолемија удружена са хипонатремијом може се користити 3%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олико се ради о крварењу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анс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онатр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Дефиниција: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је стање у коме је ниво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у плазми &lt; 135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настаје као последиц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терапиј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диуретицима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д 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дематоз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стања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к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д с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ндром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повећане секреције АДХ (СИАДХ)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д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Адисонова болест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римар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полидипсиј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л.слика</a:t>
            </a:r>
            <a:r>
              <a:rPr b="1" lang="sr-Latn-RS" sz="27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Због мањка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у ЕЦТ, вода улази у ћелије, посебно у ћелије мозг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лази до појаве можданог едема, са главобољом, мучнином, летаргијом, ступором, конвулзијам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к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ада ниво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&lt; 120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настаје ко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онатр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Концентрација натријума у крви је ниска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иска 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молалност плазм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молалност и специфична тежина урина је ниска, осим код СИАД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Хипо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а хиповолемијом (повраћање, топлотни удар, Адисонова болест) лечимо и.в. давањем физиолошког раствора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Хипо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у едематозним стањима лечимо диуретицима Хенлеове петље. Хипо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у примарној полидипсији, СИАДХ и бубрежној инсуфицијенцији лечимо рестрикцијом уноса вод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ернатри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0640" indent="-35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Дефиниција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иво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у плазми &gt; 145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0640" indent="-35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Узроци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повећан унос сол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мањен осећај жеђ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губитак воде из организм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п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већан унос сол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 претераном давању раствора хипертоног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i="1" lang="sr-Latn-RS" sz="2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sr-RS" sz="2700" spc="-1" strike="noStrike" baseline="-25000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мањена жеђ- примарна хиподипсија настаје због оштећења осморецептора у хипоталамусу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губитак воде при физичком напору, топлотном удару, фебрилним стањима, дијареји и повраћању, при употреби диуретика, у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diabetes insipidus-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,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diabetes mellitus-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 и полиуричној фази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Б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ернатри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није драматична уколико болесник пије довољно воде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у супротном настаје жеђ, слабост, конвулзије, летаргија, ступор, кома, смрт (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у плазми &gt; 180 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Мерењем концентрације натријума у крв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Надокн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вод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по формули: [(концентрација 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140)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40] 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0.4 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тежина); Пребрза надокнада течности може довести до едема мозг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ода се надокнађује у облику 5% раствора гликозе, ређе у виду физиолошког раствора или назогастричном сонд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Метаболизам калију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85840" y="1071360"/>
            <a:ext cx="85723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лијум је главни интрацелуларни катјон. Ниво К+ у ЕЦТ је 3.5 - 5.0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а у ИЦТ око 150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mmol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метаболикој ацидози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лази у ћелију у замену за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 метаболичкој алкалози, калијум улази у ћелије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штећење ћелија доводи до изласка калијума у ЕЦТ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+ се елиминише из организма путем бубрега. Секрецију калијума регулише алдостерон и концентрација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плаз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cc"/>
                </a:solidFill>
                <a:latin typeface="Calibri"/>
              </a:rPr>
              <a:t>Хипокали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Ниво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у плазми &lt; 3.5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Узроци: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Употреба диуретик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Лечење дијабетесне коме инсулином+гликозом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β2-адренергички агонисти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лаксативи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назогастрична сукциј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Дијализ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Трансфузиј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Нагли раст ћелија (тумори)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вилозни аденом црев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ВИП-оми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Знојење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дијареј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повраћање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римарни хипералдостеронизам и Кушингов синдром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Хиперренинемиј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ренална тубуларна ацидоз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метаболичка алкалоз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Слабост, пареза и парализа мишић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укључујући дијафрагму, паралитички илеус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ЕКГ промене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роширење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Q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негативан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талас,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депресија, изражен У-талас, и вентрикуларна аритмиј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Дијагноза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На основу ЕКГ-а, одређивања нивоа К+у крв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Лечење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Орална надокнада калијума: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KCl, </a:t>
            </a:r>
            <a:r>
              <a:rPr b="0" lang="sr-Latn-RS" sz="2100" spc="-1" strike="noStrike">
                <a:solidFill>
                  <a:srgbClr val="000000"/>
                </a:solidFill>
                <a:latin typeface="Calibri"/>
              </a:rPr>
              <a:t>KHCO</a:t>
            </a:r>
            <a:r>
              <a:rPr b="0" lang="sr-Latn-RS" sz="2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цитрат доводе до пада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код пацијент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аксимално 20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mmo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KC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 путем инфуз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cc"/>
                </a:solidFill>
                <a:latin typeface="Calibri"/>
              </a:rPr>
              <a:t>Хиперкали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Ниво калијума &gt;5.0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Узроци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Разарање ћелија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хемолиз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тумор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рабдомиолиз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мишићно напрезањ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; Метаболичк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ацидоз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БИ и ХБИ,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литијаз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; Употребе лекова (дигиталис, диуретици који штеде калијум,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A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инхибитори…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Губитак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таласа, проширење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QRS, AV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блок и блок гране, висок Т-талас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, в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ентрикуларна фибрилација и асистолиј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ада ниво калијума пређе 7,5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може доћи до смртног исход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Тежина хиперкалијемије се процењује на основу концентрације К+ у плазми и ЕКГ-проме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Лечење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Лечити основну болест или уклонити лек који доводи до хиперкалиемије; Хемодијализа је резервисана за најтеже случајеве;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Ca-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глуконат и.в. смањује раздражљивост ћелијске мембране; Инсулин у 5- или 10% раствору гликозе доводи до уласка калијума у ћелије.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i="1" lang="sr-Latn-RS" sz="2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sr-RS" sz="21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као и β-2 адренергички агонисти; Диуретици Хенлеове петље;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мола која везује калијум у цревим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Регулација излучивања натријум хлор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јважнији регулаторни систем за волумен ЕЋТ с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импатички нервни сис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нин-ангиотензин-алдосте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тријални натриуретски пепт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азопресин-АД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ви системи мењају своју активност при савкој промени волумена а та промена регулише волумен утицајем на излучивање натријума мокраћ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Calibri"/>
              </a:rPr>
              <a:t>Регулаторни механизми хомеостазе вод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Механизм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Неуроген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РА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Атријални натриуретски пептид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Антидиурезни хормо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Повећање жеђ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Смањење секреције алдостеро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већање секреције АНП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Смањење секреције АД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Смањење симпатичке стумулац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Смањење жеђи доводи до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већања секреције алдостеро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Смањење секреције АНП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већање АД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већање симпатичке стимулац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Calibri"/>
              </a:rPr>
              <a:t>Анамнеза болесника са бубрежним болест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00080"/>
            <a:ext cx="8329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фамилијарној анамнези наследне болести бубрега (Алпортов синдром, полицистична болест бубрега, ренална гликозурија, Фанцонијев синдром, цистинурија, БЕ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д у шуми и пољу условљавају контакте са глодарима (лептоспире, стрептококе или вирусна хеморагијска грозн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д на високој температури може изазвати екстремни губитак течности АБИ, рабдомиолиз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дници који раде у хемијској и тешкој индустрији спадају у ризичну групу због утицаја нефротоксичних супстан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медицински радници спадају у ризичну популацију због контаката са инфективним болесницима (хепатотропни вируси, ХИВ инфекције) и потенцијално инфективним материја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Антидиуретски хорм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Синтетише се у хипоталамусу а лучи у неурохипофиз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Ослобађа се као одговор на високу осмолалност и смањен волум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Повећава пропустљивост дисталних тубула бубрег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изак АДХ повећава волумен урина и смањује осмолалност ури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исок АДХ смањује волумен излучене мокраће а повећава осмолалност ури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Он је снажан вазоконстрикто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Регулација осмолалитета телесних те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да је унос течности мали, бубрег чува воду стварањем малих количина концентрованог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да је унос течности велики проток урина се може повећати  са значајно нижим осмолалитетом од плаз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е варијације у излучивању урина не мењају значајно излучивање дневног оптерећења супстанц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и процеси су под утицајем АД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Регулација осмолалитета телесних те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Клиренс осмотски активних супстанци изражава се волуменом плазме која се очисти у једној минути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os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молалност мокраће x волумен мокраће у мину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мотска концентрација плаз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лиренс слободне воде подразумева укупан волумен плазме који се очисти од вишка в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рачунава се тако што се прво одреди осмоларни клиренс а онда се добијена вредност одузме од волумена мокраће излученог у једној мину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Формула за израчунавање клиренса слободне вод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=волумен мокраће у минути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traight Connector 4"/>
          <p:cNvSpPr/>
          <p:nvPr/>
        </p:nvSpPr>
        <p:spPr>
          <a:xfrm>
            <a:off x="571680" y="2857680"/>
            <a:ext cx="6143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Метаболичка ацидо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Метаболичка ацидоза је пораст количине апсолутне телесне киселине, било од прекомерне производње или од прекомерног губитка бикарбоната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Узроци метаболичке ацидозе укључују лактатну ацидозу, дијабетичку кетоацидозу и губитак бикарбоната дијарејом, бубрезима или гастроинтестиналним тракт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убрези чувају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тако што га мењују за излучени јон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У присуству оптерећења водоником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јони прелазе из ванћелијске течности у интраћелијску течнос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Метаболичка ацидо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Да би се тај процес реализовао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се креће изван ћелије у екстраћелијску течност ради одржавања електронеутрал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од тешке ацидозе може настати потпуни губитак залиха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упркос хиперкалемији у серум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Због тога се и.в.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даје пацијентима са дијабетичком кетоацидозом у раном третману, упркос често повишеном нивоу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у ​​серум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Спољне и унутрашње равнотеже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су регулисане тако да одржавају концентрацију ванћелијске течности од 3,5 до 5,5 mEq/L и укупни телесни садржај око 50 mEq/kg (40 mEq/kg код жен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Метаболичка алкало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астаје као последица примарног пораста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уз или без компензаторног повећања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pCO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може бити повишен или скоро уреда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Узрок већином лежи у дуготрајном повраћању, хиповолемији, узимању диуретика и хипокалијемиј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За одржавање алкалозе мора бити оштећено и бубрежно излучивање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У тежим случајевима јавља се главобоља, тетанија и летаргиј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Клиничку дијагнозу потврђује анализа гасова у артеријској крви и електролита у серум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Метаболичку алкалозу карактерише накупљање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због губљења киселина, уноса база, унутарћелијског померања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или задржавања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Метаболичка алкало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уготрајна метаболичка алкалоза говори за повећану реапсорпциј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 бубрезима јер се нормалн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тамо слободно филтрира и излуч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плеција волумена и хипокалијемија су главни подражаји за повећану реапсорпциј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према томе, хипокалијемија је и узрок и посљедица метаболичке алкал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имптоми блаже алкалемије обично одражавају узрочно с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жа алкалемија повећава везивањ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 протеинима, а хипокалцијемија онда узрокује главобољу, летаргију и неуромишићну пренадражљивост, с делиријем, тетанијом и конвулз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Респираторна ацид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85840" y="999720"/>
            <a:ext cx="8572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Респираторна ацидоза карактерише се порастом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C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као последица хиповентилације, са или без компензаторног повишења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је обично снижен, али може бити нормала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Клиничка слика се манифестује главобољом, конфузијом, поспаношћу и ступором, болесници могу имати испаде меморије, сметње спавања, јављају се поремећаји хода, тремор, слабљење дубоких рефлекса, миоклони грчеви, груби тремор, едем папиле видног жив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Лечи се основна болест, уз давање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и примену механичке вентилац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Код хроничне респираторне ацидоза хиперкапнија се мора регулисати постепено, вишесатно, јер пребрзо снижење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C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може проузроковати постхиперкапнијску алкалоз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Нагли пораст можданог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изазива конвулзије и води у смр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Давање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је махом контраиндиковано јер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може повисити P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у серу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Респираторна алкал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имарно снижењ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C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уз или без компензаторног снижењ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је повишен или готово нормал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Узроци леже у повећаној фреквенцији или дубини дисања (хипервентилациј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линички: хиперпнеја или тахипне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Лечење је кауз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еспираторна алкалоза је одраз примарног снижењ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C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(хипокапнија) због хипервентилације, као одговор на хипоксију, метаболичку ацидозу и повећане метаболичке захтев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Вишак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се неутрализира екстраћелијским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за пар мин, али се темељита компензација успоставља након 2–3 дана, када бубрези смањују излучивањ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Респираторна алкал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5840" y="1071720"/>
            <a:ext cx="85723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еспираторна алкалоза доводи до вртоглавице, периферних парестезија, грчева и синкоп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Често су једини симптоми тахипнеја или хиперпнеја, у тежим се случајевима јављају карпопедални спаз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епознавање респираторне алкалозе и примерене бубрежне компензације засноване су на анализи ацидобазног статуса и налазу серумских електроли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Могу се наћи и блага хипофосфатемија и хипокалијемија због помака у ћелије, као и снижењ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због повећаног везивањ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за проте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еспираторна алкалоза не угрожава живот па интервенције ради повишењ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нису оправд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Често се повећава инхалаторна концентрациј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поновним удисањем издахнутог ваздух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Питања у а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намнез</a:t>
            </a: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и код сумње на 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бубрежн</a:t>
            </a: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е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5840" y="149976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нормално мокри (количински и тегоб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мокри често (дан-ноћ), да ли мокри мање или обилно и када (дан/ноћ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има сметње (болове) при мокрењ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има промене у боји и изгледу мокраћ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има појаву крви у мокраћ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д жена питати за менструални циклус (када је била прва менструација, да ли је уредна, колико траје, да ли је обилна, болн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је имала порођаје и колико, да ли је имала мртворођене де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је имала побача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је имала и да ли има друге поремећаје у току менстру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Терапијске могућ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7200" y="1143000"/>
          <a:ext cx="8043840" cy="5357880"/>
        </p:xfrm>
        <a:graphic>
          <a:graphicData uri="http://schemas.openxmlformats.org/drawingml/2006/table">
            <a:tbl>
              <a:tblPr/>
              <a:tblGrid>
                <a:gridCol w="4022640"/>
                <a:gridCol w="4021200"/>
              </a:tblGrid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ервенциј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жиљавање гломерул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ада без могућности лечењ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поравање прогресиј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љни притисак, АЦЕ, АР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венција и лечење компликац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А, везачи фосфата, вит. Д, аналози, калцимиметиц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ење кардиоваскуларног ризи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и циљни притисак, АЦЕи, АРБ, статин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Радиолошке методе испитивања болести бу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тивни снимак уротрак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травенска и инфузиона урограф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троградна и антероградна урографија (цистографиј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троградна и микциона цистограф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гиографија крвних судова бубре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пјутеризована томограф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гнетна резонанц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нограф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плер сонограф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cc"/>
                </a:solidFill>
                <a:latin typeface="Calibri"/>
              </a:rPr>
              <a:t>Радиолошко испитивање без контра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менама на костима (РОД, литичке ил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бластичне метастазе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менама на меким ткивима облитерација псоаса је зна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локалне инфилтрације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крвављења, тумора или урином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Ваздух, илеус или опструкциј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Калцификације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642960" y="1428840"/>
            <a:ext cx="728676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ffff"/>
                </a:solidFill>
                <a:latin typeface="Calibri"/>
              </a:rPr>
              <a:t>Нативни снимак може дати податке 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Интравенска урогра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величине и изгледа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итивање рекурентне уринарне опстру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ривање и локализација калкул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суспектне уринарне опстру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узрока хематур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ЕХО бубре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цена величине бубрег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Скрининг за хидронефроз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Диференцира масе у бубрег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цена периреналног простора за апсцес или хематом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Локализује бубрег за неинвазивне процедур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РПЦ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цењује резидуални урин (&gt;100 мл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цена тромбозе реналне вене (Доплер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цењује бубрежни проток (Доплер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Компјутеризована томограф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ља процена бубрежних м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вајање масе од калцифик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нефункционишућег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трауме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јагноза феохромоцитома у надбубрег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6760" y="571680"/>
            <a:ext cx="828684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Магнетна резона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о допуна ЦТ у процени реналних м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о алтернатива за ЦТ у пацијената који не подносе контрастна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алуација суспектног феохромоцит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тромбозе реналне вене и васкуларних поремећаја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Diagram 1" descr=""/>
          <p:cNvPicPr/>
          <p:nvPr/>
        </p:nvPicPr>
        <p:blipFill>
          <a:blip r:embed="rId1"/>
          <a:stretch/>
        </p:blipFill>
        <p:spPr>
          <a:xfrm>
            <a:off x="500040" y="920880"/>
            <a:ext cx="8358120" cy="5662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АНГИОГРА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6" descr="Сродна слика"/>
          <p:cNvPicPr/>
          <p:nvPr/>
        </p:nvPicPr>
        <p:blipFill>
          <a:blip r:embed="rId2"/>
          <a:stretch/>
        </p:blipFill>
        <p:spPr>
          <a:xfrm>
            <a:off x="785880" y="271476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Радионуклеидне мето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85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татичка сцинтигра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инамска сцинтигра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Радиогра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уклеарно-медицинске методе за одређивање клир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Оклузија леве реналне артер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714320"/>
            <a:ext cx="2971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Реновазограф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Content Placeholder 9" descr="20170914_090529.jpg"/>
          <p:cNvPicPr/>
          <p:nvPr/>
        </p:nvPicPr>
        <p:blipFill>
          <a:blip r:embed="rId1"/>
          <a:srcRect l="0" t="14463" r="0" b="5970"/>
          <a:stretch/>
        </p:blipFill>
        <p:spPr>
          <a:xfrm>
            <a:off x="500040" y="2714760"/>
            <a:ext cx="3030480" cy="32144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14520" y="157140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Динамска сцинтиграфија са сепаратним клиренсима и радиоренограм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Content Placeholder 10" descr="20170914_090211.jpg"/>
          <p:cNvPicPr/>
          <p:nvPr/>
        </p:nvPicPr>
        <p:blipFill>
          <a:blip r:embed="rId2"/>
          <a:srcRect l="0" t="49831" r="0" b="9526"/>
          <a:stretch/>
        </p:blipFill>
        <p:spPr>
          <a:xfrm>
            <a:off x="4857840" y="3357720"/>
            <a:ext cx="3031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ЗНАЦИ БУБРЕЖНИХ БОЛЕСТИ И МЕТОДЕ КЛИНИЧКИХ ПРЕГЛЕ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98989"/>
                </a:solidFill>
                <a:latin typeface="Calibri"/>
              </a:rPr>
              <a:t>Дијагностика бубрежних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Биопсија бубре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Перкутана биоп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рансјугуларна биоп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творена биоп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Индикација за биопсију бубре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фротски синд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ски еритемски луп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зопрогредирајући гломерулонефр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горшање ф-је трансплантираног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имптоматска хемат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имптоматска протеин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тна инсуфицијенција бубрега нејасног узро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cc"/>
                </a:solidFill>
                <a:latin typeface="Calibri"/>
              </a:rPr>
              <a:t>Контраиндикациј</a:t>
            </a:r>
            <a:r>
              <a:rPr b="1" lang="sr-RS" sz="3600" spc="-1" strike="noStrike">
                <a:solidFill>
                  <a:srgbClr val="0000cc"/>
                </a:solidFill>
                <a:latin typeface="Calibri"/>
              </a:rPr>
              <a:t>е</a:t>
            </a:r>
            <a:r>
              <a:rPr b="1" lang="sr-Latn-CS" sz="3600" spc="-1" strike="noStrike">
                <a:solidFill>
                  <a:srgbClr val="0000cc"/>
                </a:solidFill>
                <a:latin typeface="Calibri"/>
              </a:rPr>
              <a:t> за биопсију бубре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солутне (поремећај крвављења и немогућност сарадње са болесником, нерегулисана хипертензија, хипотенз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лативне (смањени бубрези око 9 цм, екстремна гојазност, цисте на месту где се врши биопсија, пијелонефритис, апсцес бубрега, хидронефро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329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Компликације биопсије бу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кроскопско крвав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кроскопско крвав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ренални хема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ериовенска фист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реда околних орг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фректо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р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Знаци бубрежних боле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1280" y="571680"/>
          <a:ext cx="9001440" cy="6188040"/>
        </p:xfrm>
        <a:graphic>
          <a:graphicData uri="http://schemas.openxmlformats.org/drawingml/2006/table">
            <a:tbl>
              <a:tblPr/>
              <a:tblGrid>
                <a:gridCol w="4500720"/>
                <a:gridCol w="4500720"/>
              </a:tblGrid>
              <a:tr h="421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мптоми и зна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ничка стањ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да боја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тни Г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2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пељасто-жута боја коже,смањен тургор, трагови чеш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минална 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цификације меких ткива, Кусмаулово дисање, мишићни грчеви, конвулзије, амонијакални задах из уста, сомноленција, к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минална 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2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сечасто лице, грчеви, конвулзије, централна расподела масног ткива, ак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апија кортикостерои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упчење предњег трбушног з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ћани бубрези, препуњена м.беш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ди но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ртаста крвављења у нокт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кул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2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вављење у унутрашњим органима или телесним отворима, хиперемија конјунктива, петехијална ос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УС, ХГ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6T18:02:46Z</dcterms:created>
  <dc:creator>Windows User</dc:creator>
  <dc:description/>
  <dc:language>en-US</dc:language>
  <cp:lastModifiedBy>MISEL</cp:lastModifiedBy>
  <dcterms:modified xsi:type="dcterms:W3CDTF">2019-09-07T21:04:55Z</dcterms:modified>
  <cp:revision>29</cp:revision>
  <dc:subject/>
  <dc:title>Slide 1</dc:title>
</cp:coreProperties>
</file>