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8"/>
          <p:cNvGrpSpPr/>
          <p:nvPr/>
        </p:nvGrpSpPr>
        <p:grpSpPr>
          <a:xfrm>
            <a:off x="277920" y="1111320"/>
            <a:ext cx="8570880" cy="4097160"/>
            <a:chOff x="277920" y="1111320"/>
            <a:chExt cx="8570880" cy="4097160"/>
          </a:xfrm>
        </p:grpSpPr>
        <p:sp>
          <p:nvSpPr>
            <p:cNvPr id="40" name="Rectangle 3"/>
            <p:cNvSpPr/>
            <p:nvPr/>
          </p:nvSpPr>
          <p:spPr>
            <a:xfrm>
              <a:off x="322920" y="1111320"/>
              <a:ext cx="84981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600" spc="-1" strike="noStrike">
                  <a:solidFill>
                    <a:srgbClr val="000000"/>
                  </a:solidFill>
                  <a:latin typeface="Arial"/>
                </a:rPr>
                <a:t>ГЛОМЕРУЛОНЕФРИТИС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Line 4"/>
            <p:cNvSpPr/>
            <p:nvPr/>
          </p:nvSpPr>
          <p:spPr>
            <a:xfrm>
              <a:off x="277920" y="198288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2"/>
            <p:cNvSpPr/>
            <p:nvPr/>
          </p:nvSpPr>
          <p:spPr>
            <a:xfrm>
              <a:off x="446040" y="446724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. ДР ДЕЈАН 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320760" y="892080"/>
            <a:ext cx="8432640" cy="701640"/>
            <a:chOff x="320760" y="892080"/>
            <a:chExt cx="8432640" cy="701640"/>
          </a:xfrm>
        </p:grpSpPr>
        <p:sp>
          <p:nvSpPr>
            <p:cNvPr id="132" name="Rectangle 3"/>
            <p:cNvSpPr/>
            <p:nvPr/>
          </p:nvSpPr>
          <p:spPr>
            <a:xfrm>
              <a:off x="320760" y="892080"/>
              <a:ext cx="8432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АКУТНИ НЕФРИТИЧКИ СИНДРОМ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 ЛЕЧЕЊ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 flipV="1">
              <a:off x="320760" y="144792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"/>
          <p:cNvSpPr/>
          <p:nvPr/>
        </p:nvSpPr>
        <p:spPr>
          <a:xfrm>
            <a:off x="277920" y="1501920"/>
            <a:ext cx="2609640" cy="496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Тежина хипертен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887560" y="1501920"/>
            <a:ext cx="6000840" cy="496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Лечење хипертен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7920" y="1998720"/>
            <a:ext cx="2609640" cy="2019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887560" y="1998720"/>
            <a:ext cx="6000840" cy="33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Фуросемид: 1-3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/kg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/дан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er os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подељено у 2 доз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887560" y="2338560"/>
            <a:ext cx="6000840" cy="56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Хидралазин:  0.75-5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/kg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/дан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er os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подељено на 6-12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Укупна доза не већа од 2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887560" y="2898720"/>
            <a:ext cx="6000840" cy="560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Нифедипин:  30-6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/дан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er os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невна доза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не већа од 90-12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887560" y="3459240"/>
            <a:ext cx="6000840" cy="558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Амлодипин:  5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/дан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er os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после 1-2 недеље дозу повећати на 1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77920" y="4017960"/>
            <a:ext cx="2609640" cy="112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Тешк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(без енцефалопатиј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887560" y="4017960"/>
            <a:ext cx="6000840" cy="560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Хидралазин:  0.15-0.3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/kg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 (5-1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 i.v.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поновити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после 2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887560" y="4578480"/>
            <a:ext cx="6000840" cy="56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Нифедипин:  30-6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/дан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er os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невна доза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не већа од 90-12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77920" y="5138640"/>
            <a:ext cx="2609640" cy="135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Тешк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(са енцефалопатиј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887560" y="5138640"/>
            <a:ext cx="6000840" cy="33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Лабеталол: 0.5-3.0 </a:t>
            </a:r>
            <a:r>
              <a:rPr b="1" i="1" lang="sr-Latn-R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g/kg/h i.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887560" y="6156360"/>
            <a:ext cx="6000840" cy="33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Фуросемид: 2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/kg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.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887560" y="5478480"/>
            <a:ext cx="6000840" cy="33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иазоксид: 1-3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/kg i.v.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доза не већа од 15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2887560" y="5818320"/>
            <a:ext cx="6000840" cy="3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Натријум-нитропрусид: 0.5-2.0 </a:t>
            </a:r>
            <a:r>
              <a:rPr b="1" i="1" lang="sr-Latn-R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g/kg/min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.v.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инфу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8"/>
          <p:cNvGrpSpPr/>
          <p:nvPr/>
        </p:nvGrpSpPr>
        <p:grpSpPr>
          <a:xfrm>
            <a:off x="277920" y="1111320"/>
            <a:ext cx="8570880" cy="4097160"/>
            <a:chOff x="277920" y="1111320"/>
            <a:chExt cx="8570880" cy="4097160"/>
          </a:xfrm>
        </p:grpSpPr>
        <p:sp>
          <p:nvSpPr>
            <p:cNvPr id="150" name="Rectangle 3"/>
            <p:cNvSpPr/>
            <p:nvPr/>
          </p:nvSpPr>
          <p:spPr>
            <a:xfrm>
              <a:off x="322920" y="1111320"/>
              <a:ext cx="84981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200" spc="-1" strike="noStrike">
                  <a:solidFill>
                    <a:srgbClr val="000000"/>
                  </a:solidFill>
                  <a:latin typeface="Arial"/>
                </a:rPr>
                <a:t>АКУТНИ ГЛОМЕРУЛОНЕФРИТИ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277920" y="187452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46040" y="446724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Ф. ДР ДЕЈАН 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9"/>
          <p:cNvGrpSpPr/>
          <p:nvPr/>
        </p:nvGrpSpPr>
        <p:grpSpPr>
          <a:xfrm>
            <a:off x="174600" y="203040"/>
            <a:ext cx="8780400" cy="6473880"/>
            <a:chOff x="174600" y="203040"/>
            <a:chExt cx="8780400" cy="6473880"/>
          </a:xfrm>
        </p:grpSpPr>
        <p:sp>
          <p:nvSpPr>
            <p:cNvPr id="154" name="Rectangle 2"/>
            <p:cNvSpPr/>
            <p:nvPr/>
          </p:nvSpPr>
          <p:spPr>
            <a:xfrm>
              <a:off x="276120" y="1112400"/>
              <a:ext cx="8622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Acute Poststreptococcal Glomerulonephri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"/>
            <p:cNvSpPr/>
            <p:nvPr/>
          </p:nvSpPr>
          <p:spPr>
            <a:xfrm>
              <a:off x="174600" y="203040"/>
              <a:ext cx="8780400" cy="64738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"/>
            <p:cNvSpPr/>
            <p:nvPr/>
          </p:nvSpPr>
          <p:spPr>
            <a:xfrm flipV="1">
              <a:off x="320400" y="186660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25080" y="1879200"/>
              <a:ext cx="8461440" cy="28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 је имунски изазвано запаљењ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убрега, које се јавља после инфекција горњих респираторних путева или кож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зазваних нефритогеним типовима бета хемолитичког стрептокока групе 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фритогени потенцијал бета хемолитичког стрептокока групе 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ОВ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2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8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5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9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5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7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ови стрептокока повезани са кожном инфекциј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ОВ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9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5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7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1"/>
          <p:cNvGrpSpPr/>
          <p:nvPr/>
        </p:nvGrpSpPr>
        <p:grpSpPr>
          <a:xfrm>
            <a:off x="174600" y="174600"/>
            <a:ext cx="8839080" cy="6502320"/>
            <a:chOff x="174600" y="174600"/>
            <a:chExt cx="8839080" cy="6502320"/>
          </a:xfrm>
        </p:grpSpPr>
        <p:sp>
          <p:nvSpPr>
            <p:cNvPr id="159" name="Rectangle 3"/>
            <p:cNvSpPr/>
            <p:nvPr/>
          </p:nvSpPr>
          <p:spPr>
            <a:xfrm>
              <a:off x="174600" y="174600"/>
              <a:ext cx="8781120" cy="65023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"/>
            <p:cNvSpPr/>
            <p:nvPr/>
          </p:nvSpPr>
          <p:spPr>
            <a:xfrm flipV="1">
              <a:off x="320400" y="1141200"/>
              <a:ext cx="84924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>
              <a:off x="233280" y="825480"/>
              <a:ext cx="8780400" cy="56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ТОГЕНЕ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ТОГЕНЕТСКИ МЕХАНИЗМИ РАЗВОЈА ГЛОМЕРУЛОНЕФРИТИ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191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олест узрокована имунским комплекс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3737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иркулишући имунски комплекси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C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нулирани депозити у гломерул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мањена концентрациј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3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мпоненте комплемента (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 недеља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тигени стрептокока групе А, ендострептозин подстиче стварањ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тител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 настали комплекси се депонују у гломерул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1d1d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тигени стрептокока везују се за базалну мембрану гломерула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vivo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так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ађени подстичу ставрање имунских комплекс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si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151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фузни ендокапиларни пролиферативни гломерулонефрити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151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целуларност гломерула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333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ендотелних и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333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зражена ћелијска инфилтрација гломерул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иморфонуклеар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ноц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252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ранулирани субепителни депозити састоје се од: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тк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gM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174600" y="203040"/>
            <a:ext cx="8780400" cy="6473880"/>
            <a:chOff x="174600" y="203040"/>
            <a:chExt cx="8780400" cy="6473880"/>
          </a:xfrm>
        </p:grpSpPr>
        <p:sp>
          <p:nvSpPr>
            <p:cNvPr id="163" name="Rectangle 2"/>
            <p:cNvSpPr/>
            <p:nvPr/>
          </p:nvSpPr>
          <p:spPr>
            <a:xfrm>
              <a:off x="276120" y="1112400"/>
              <a:ext cx="86220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"/>
            <p:cNvSpPr/>
            <p:nvPr/>
          </p:nvSpPr>
          <p:spPr>
            <a:xfrm>
              <a:off x="174600" y="203040"/>
              <a:ext cx="8780400" cy="64738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 flipV="1">
              <a:off x="320400" y="157608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30120" y="1443960"/>
              <a:ext cx="8461440" cy="47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ЛИНИЧКА СЛ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1d1d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АТЕНТНИ ПЕРИОД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после стрептококне инфекције ждрела или кож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1d1d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-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деље (ретко дуж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212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КУТНИ ПОЧЕТ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ремећај општег стањ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ематурија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краћа боје кока-кол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лиг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еде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тензија (потиљачна главобољ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умбални бол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090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ИКАЦ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стојна срчана слабо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тензивна енцефалопат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2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кутна инсуфицијенциј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5"/>
          <p:cNvGrpSpPr/>
          <p:nvPr/>
        </p:nvGrpSpPr>
        <p:grpSpPr>
          <a:xfrm>
            <a:off x="174600" y="203040"/>
            <a:ext cx="8780400" cy="6473880"/>
            <a:chOff x="174600" y="203040"/>
            <a:chExt cx="8780400" cy="6473880"/>
          </a:xfrm>
        </p:grpSpPr>
        <p:sp>
          <p:nvSpPr>
            <p:cNvPr id="168" name="Rectangle 2"/>
            <p:cNvSpPr/>
            <p:nvPr/>
          </p:nvSpPr>
          <p:spPr>
            <a:xfrm>
              <a:off x="315360" y="1098360"/>
              <a:ext cx="84819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Acute Poststreptococal Glomerulonephri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174600" y="203040"/>
              <a:ext cx="8780400" cy="64738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 flipV="1">
              <a:off x="320400" y="189540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330120" y="1855440"/>
              <a:ext cx="846144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ИЈАГНО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стојање периода латенције (2-4 недељ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золована бактерија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емолитички стрептокок групе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нефритогени М протеин у зиду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унски одговор организма на егзоантигене бактер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стрептолизи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O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STO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стрептокина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SK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деоксирибонуклеаз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DNasa B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хијалуронида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лазно смањење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оненте комплем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раћање на нормалне вредности унутар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6-8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дељ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5"/>
          <p:cNvGrpSpPr/>
          <p:nvPr/>
        </p:nvGrpSpPr>
        <p:grpSpPr>
          <a:xfrm>
            <a:off x="174600" y="203040"/>
            <a:ext cx="8780400" cy="6473880"/>
            <a:chOff x="174600" y="203040"/>
            <a:chExt cx="8780400" cy="6473880"/>
          </a:xfrm>
        </p:grpSpPr>
        <p:sp>
          <p:nvSpPr>
            <p:cNvPr id="173" name="Rectangle 3"/>
            <p:cNvSpPr/>
            <p:nvPr/>
          </p:nvSpPr>
          <p:spPr>
            <a:xfrm>
              <a:off x="276120" y="1069560"/>
              <a:ext cx="8622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Acute Poststreptococal Glomerulonephri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4600" y="203040"/>
              <a:ext cx="8780400" cy="64738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 flipV="1">
              <a:off x="320400" y="186660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330120" y="1915920"/>
              <a:ext cx="8461440" cy="37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КАЦИЈЕ ЗА БИОПСИЈУ БУБРЕ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типична презентација 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онгирана олиг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лика протеинурија (протеинурија нефротског ран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гредирајућа азот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дсуство серолошке потврде претходне стрептококне инфек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кроскопска хематурија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 трајању од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-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деље или перзистент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2.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/24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 или без хематурије, у трајању дужем од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сец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мањена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C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онента комплемента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 периоду дужем 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8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дељ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5"/>
          <p:cNvGrpSpPr/>
          <p:nvPr/>
        </p:nvGrpSpPr>
        <p:grpSpPr>
          <a:xfrm>
            <a:off x="174600" y="203040"/>
            <a:ext cx="8780400" cy="6473880"/>
            <a:chOff x="174600" y="203040"/>
            <a:chExt cx="8780400" cy="6473880"/>
          </a:xfrm>
        </p:grpSpPr>
        <p:sp>
          <p:nvSpPr>
            <p:cNvPr id="178" name="Rectangle 2"/>
            <p:cNvSpPr/>
            <p:nvPr/>
          </p:nvSpPr>
          <p:spPr>
            <a:xfrm>
              <a:off x="276120" y="939600"/>
              <a:ext cx="8622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"/>
            <p:cNvSpPr/>
            <p:nvPr/>
          </p:nvSpPr>
          <p:spPr>
            <a:xfrm>
              <a:off x="174600" y="203040"/>
              <a:ext cx="8780400" cy="64738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320400" y="148896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330120" y="1491840"/>
              <a:ext cx="846144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ИФЕРЕНЦИЈАЛНА ДИЈАГНО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КУТНИ НЕФРИТИЧКИ СИНД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са стварањем полумесе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ood-Pasture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le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 пурпу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ломерулонефритис после других инфек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тинфективни Г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иоглобулин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емолитичко-уремијски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343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упус 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КРОСКОПСКА ХЕМАТУРИЈА СА ИЛИ БЕЗ ПРОТЕИНУР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f3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port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f3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g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ропат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f3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кално-сегментна гломерулоскле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f3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милијарна хемат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f3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иопатска хемат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5"/>
          <p:cNvGrpSpPr/>
          <p:nvPr/>
        </p:nvGrpSpPr>
        <p:grpSpPr>
          <a:xfrm>
            <a:off x="174600" y="203040"/>
            <a:ext cx="8780400" cy="6591600"/>
            <a:chOff x="174600" y="203040"/>
            <a:chExt cx="8780400" cy="6591600"/>
          </a:xfrm>
        </p:grpSpPr>
        <p:sp>
          <p:nvSpPr>
            <p:cNvPr id="183" name="Rectangle 3"/>
            <p:cNvSpPr/>
            <p:nvPr/>
          </p:nvSpPr>
          <p:spPr>
            <a:xfrm>
              <a:off x="174600" y="203040"/>
              <a:ext cx="8780400" cy="64742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"/>
            <p:cNvSpPr/>
            <p:nvPr/>
          </p:nvSpPr>
          <p:spPr>
            <a:xfrm flipV="1">
              <a:off x="320400" y="1187280"/>
              <a:ext cx="849168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330120" y="1217520"/>
              <a:ext cx="8461440" cy="55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НТИМИКРОБНА ТЕРАП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6582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БИОТИЦ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enicill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617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 контролу локалних симпто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5b7a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enicill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250-50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 per o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6-8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1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да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4b6d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Erythromyc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25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 per o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6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ИУРЕТИЦ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476a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УРЕТИЦИ ХЕНЛЕОВЕ ПЕТ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4b6d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ечење от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5d7c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трола хиперволем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f57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трола хипертенз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d5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тензија зависна од волуме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448920" y="4862520"/>
              <a:ext cx="4076640" cy="15811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УРЕТИЦИ ХЕНЛЕОВЕ ПЕТ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Lasi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абл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. 4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ицијална до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40-8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er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већати дозу за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0-4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 свак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6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ксимална до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Lasi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a 20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174600" y="203040"/>
            <a:ext cx="8791560" cy="6532560"/>
            <a:chOff x="174600" y="203040"/>
            <a:chExt cx="8791560" cy="6532560"/>
          </a:xfrm>
        </p:grpSpPr>
        <p:sp>
          <p:nvSpPr>
            <p:cNvPr id="188" name="Rectangle 3"/>
            <p:cNvSpPr/>
            <p:nvPr/>
          </p:nvSpPr>
          <p:spPr>
            <a:xfrm>
              <a:off x="174600" y="203040"/>
              <a:ext cx="8780040" cy="64746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 flipV="1">
              <a:off x="320400" y="1128600"/>
              <a:ext cx="849132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213840" y="1071720"/>
              <a:ext cx="8461080" cy="55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АЗОДИЛАТАТОРНИ ЛЕК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2d2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трола хипертенз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252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ечење хипертензивне енцефалопат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92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ydralaz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92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fodip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92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-nitropru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292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diazo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ТИКОСТЕРОИДИ И ИМУНОСУПРЕСИ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2d2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 најтежим случајевим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S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ЕМОДИЈАЛИ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b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волемија резистентна на диуретску терапиј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b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едем плућа резистентан на диуретску терапиј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3b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зопрогресивни пораст азотних мате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889520" y="1218960"/>
              <a:ext cx="407664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АЗОДИЛАТАТОРИ: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odium nitroprus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0.5-8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/kg/min i.v.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зину инфузије 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0.5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узиј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/kg/mi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во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 интоксикације цијанид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ydralaz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.v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.: 5-1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новити на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0-3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f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er os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1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степено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д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зе од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5-5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"/>
          <p:cNvGrpSpPr/>
          <p:nvPr/>
        </p:nvGrpSpPr>
        <p:grpSpPr>
          <a:xfrm>
            <a:off x="247680" y="1114560"/>
            <a:ext cx="8621640" cy="5279760"/>
            <a:chOff x="247680" y="1114560"/>
            <a:chExt cx="8621640" cy="5279760"/>
          </a:xfrm>
        </p:grpSpPr>
        <p:sp>
          <p:nvSpPr>
            <p:cNvPr id="44" name="Rectangle 2"/>
            <p:cNvSpPr/>
            <p:nvPr/>
          </p:nvSpPr>
          <p:spPr>
            <a:xfrm>
              <a:off x="247680" y="1114560"/>
              <a:ext cx="862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ГЛОМЕРУЛОНЕФРИТИС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ГЛОМЕРУЛСКЕ БОЛЕСТИ БУБРЕГ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4"/>
            <p:cNvSpPr/>
            <p:nvPr/>
          </p:nvSpPr>
          <p:spPr>
            <a:xfrm flipV="1">
              <a:off x="291960" y="200016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91960" y="2066760"/>
              <a:ext cx="8433000" cy="43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ДЕФИНИЦИЈ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ломерулске болести бубрега (гломерулонефритиси) су разнород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рупа обољења гломерула, посредованог имунским механизмима, 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јима је првенствено оштећена структура и функција гломер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6"/>
          <p:cNvSpPr/>
          <p:nvPr/>
        </p:nvSpPr>
        <p:spPr>
          <a:xfrm>
            <a:off x="291960" y="2066760"/>
            <a:ext cx="8433000" cy="454356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"/>
          <p:cNvGrpSpPr/>
          <p:nvPr/>
        </p:nvGrpSpPr>
        <p:grpSpPr>
          <a:xfrm>
            <a:off x="247680" y="1187280"/>
            <a:ext cx="8621640" cy="4340520"/>
            <a:chOff x="247680" y="1187280"/>
            <a:chExt cx="8621640" cy="4340520"/>
          </a:xfrm>
        </p:grpSpPr>
        <p:sp>
          <p:nvSpPr>
            <p:cNvPr id="193" name="Rectangle 3"/>
            <p:cNvSpPr/>
            <p:nvPr/>
          </p:nvSpPr>
          <p:spPr>
            <a:xfrm>
              <a:off x="247680" y="1187280"/>
              <a:ext cx="8621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НЕФРОПАТИЈ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320400" y="189828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446040" y="478656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6"/>
          <p:cNvGrpSpPr/>
          <p:nvPr/>
        </p:nvGrpSpPr>
        <p:grpSpPr>
          <a:xfrm>
            <a:off x="257040" y="992160"/>
            <a:ext cx="8622000" cy="4513320"/>
            <a:chOff x="257040" y="992160"/>
            <a:chExt cx="8622000" cy="4513320"/>
          </a:xfrm>
        </p:grpSpPr>
        <p:sp>
          <p:nvSpPr>
            <p:cNvPr id="197" name="Rectangle 3"/>
            <p:cNvSpPr/>
            <p:nvPr/>
          </p:nvSpPr>
          <p:spPr>
            <a:xfrm>
              <a:off x="257040" y="99216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V="1">
              <a:off x="320400" y="173772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45680" y="1917720"/>
              <a:ext cx="8128440" cy="35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нефропатија је болест гломерула, која се одликује депоновањем имунск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позита, изграђених од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G/C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, у мезангијуму гломерула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 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епизодама макроскопске гломерулске хематур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 показује имунске депозите у мезангију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епизодама рекурентне макроскопске хематур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0"/>
          <p:cNvGrpSpPr/>
          <p:nvPr/>
        </p:nvGrpSpPr>
        <p:grpSpPr>
          <a:xfrm>
            <a:off x="237960" y="992160"/>
            <a:ext cx="8645760" cy="5611680"/>
            <a:chOff x="237960" y="992160"/>
            <a:chExt cx="8645760" cy="5611680"/>
          </a:xfrm>
        </p:grpSpPr>
        <p:sp>
          <p:nvSpPr>
            <p:cNvPr id="201" name="Line 5"/>
            <p:cNvSpPr/>
            <p:nvPr/>
          </p:nvSpPr>
          <p:spPr>
            <a:xfrm flipV="1">
              <a:off x="320400" y="176184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329760" y="1843200"/>
              <a:ext cx="8424000" cy="1030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ЕТИ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ПРИМАРНА</a:t>
              </a: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Ig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ФРОПАТИЈА (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Berge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ова болес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СЕКУНДАРНА</a:t>
              </a: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ffffff"/>
                  </a:solidFill>
                  <a:latin typeface="Arial"/>
                </a:rPr>
                <a:t>IgA</a:t>
              </a: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ФР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37960" y="2790720"/>
              <a:ext cx="8645760" cy="38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ЗРОЦИ СЕКУНДАРНЕ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ИСТЕМСКЕ БОЛЕСТИ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nlein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а пурпура,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hron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а болест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АЛИГНЕ БОЛЕСТИ: карцином плућа, ларинкса, фаринкса, панкреас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ФЕКЦИЈЕ: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ек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РОНИЧНА БОЛЕСТ ЈЕТРЕ: ци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.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ЕРОНЕГАТИВНЕ АРТРОПАТИЈЕ: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Spondylitis ankylopoe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"/>
            <p:cNvSpPr/>
            <p:nvPr/>
          </p:nvSpPr>
          <p:spPr>
            <a:xfrm>
              <a:off x="256680" y="992160"/>
              <a:ext cx="86220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5"/>
          <p:cNvGrpSpPr/>
          <p:nvPr/>
        </p:nvGrpSpPr>
        <p:grpSpPr>
          <a:xfrm>
            <a:off x="257040" y="949320"/>
            <a:ext cx="8622000" cy="5567400"/>
            <a:chOff x="257040" y="949320"/>
            <a:chExt cx="8622000" cy="5567400"/>
          </a:xfrm>
        </p:grpSpPr>
        <p:grpSp>
          <p:nvGrpSpPr>
            <p:cNvPr id="206" name="Group 5"/>
            <p:cNvGrpSpPr/>
            <p:nvPr/>
          </p:nvGrpSpPr>
          <p:grpSpPr>
            <a:xfrm>
              <a:off x="320400" y="1646280"/>
              <a:ext cx="8433360" cy="4870440"/>
              <a:chOff x="320400" y="1646280"/>
              <a:chExt cx="8433360" cy="4870440"/>
            </a:xfrm>
          </p:grpSpPr>
          <p:sp>
            <p:nvSpPr>
              <p:cNvPr id="207" name="Line 5"/>
              <p:cNvSpPr/>
              <p:nvPr/>
            </p:nvSpPr>
            <p:spPr>
              <a:xfrm flipV="1">
                <a:off x="320400" y="16837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7"/>
              <p:cNvSpPr/>
              <p:nvPr/>
            </p:nvSpPr>
            <p:spPr>
              <a:xfrm>
                <a:off x="469440" y="1646280"/>
                <a:ext cx="8128800" cy="48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главни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патогенетски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механизам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после бактеријских и вирусних инфекција у тонзилама и костној срж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стварају се популације појачано стимулисаних Б лимфоцита, који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секретују патолошки имуглобулин А1 (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IgA1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ремећај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гликозилације имуноглобулина 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стварају се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GalNac-IgA1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остаци (имају особине антиген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стварају се анти-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 GalNac-IgA1</a:t>
                </a:r>
                <a:r>
                  <a:rPr b="1" i="1" lang="sr-R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антитела (</a:t>
                </a:r>
                <a:r>
                  <a:rPr b="1" i="1" lang="sr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-галактозил антител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имунски комплекси из циркулације таложе се у мезангијуму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активирају се мезангијумске ћелиј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36400" indent="-79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активисане мезангијумске ћелије појачано стварају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прозапаљенске медијаторе: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TNF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IL-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проожиљне медијаторе: ангиотензин 2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TGF</a:t>
                </a:r>
                <a:r>
                  <a:rPr b="1" i="1" lang="sr-Latn-RS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i="1" lang="sr-Latn-R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ожиљавање гломерула и тубулоинтерстицију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257040" y="949320"/>
            <a:ext cx="8622000" cy="5567400"/>
            <a:chOff x="257040" y="949320"/>
            <a:chExt cx="8622000" cy="5567400"/>
          </a:xfrm>
        </p:grpSpPr>
        <p:grpSp>
          <p:nvGrpSpPr>
            <p:cNvPr id="211" name="Group 5"/>
            <p:cNvGrpSpPr/>
            <p:nvPr/>
          </p:nvGrpSpPr>
          <p:grpSpPr>
            <a:xfrm>
              <a:off x="320400" y="1646280"/>
              <a:ext cx="8433360" cy="4870440"/>
              <a:chOff x="320400" y="1646280"/>
              <a:chExt cx="8433360" cy="4870440"/>
            </a:xfrm>
          </p:grpSpPr>
          <p:sp>
            <p:nvSpPr>
              <p:cNvPr id="212" name="Line 5"/>
              <p:cNvSpPr/>
              <p:nvPr/>
            </p:nvSpPr>
            <p:spPr>
              <a:xfrm flipV="1">
                <a:off x="320400" y="16837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7"/>
              <p:cNvSpPr/>
              <p:nvPr/>
            </p:nvSpPr>
            <p:spPr>
              <a:xfrm>
                <a:off x="469800" y="1646280"/>
                <a:ext cx="8128440" cy="48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ПАТОХИСТОЛОГ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мезангијумских ћел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мунски депозити у мезангиј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ћелијски полумесеци (ретко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кална или дифузна интерстицијумска фиброза и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ранулирани имунски депозити у мезангијуму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Ig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гранулирани имунски депозити у мезангиј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мезангијумских ћел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ћелијски полумесеци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(ретко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трофија тубула и ожиљавање интерстицијум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5"/>
          <p:cNvGrpSpPr/>
          <p:nvPr/>
        </p:nvGrpSpPr>
        <p:grpSpPr>
          <a:xfrm>
            <a:off x="257040" y="949320"/>
            <a:ext cx="8622000" cy="4898880"/>
            <a:chOff x="257040" y="949320"/>
            <a:chExt cx="8622000" cy="4898880"/>
          </a:xfrm>
        </p:grpSpPr>
        <p:grpSp>
          <p:nvGrpSpPr>
            <p:cNvPr id="216" name="Group 5"/>
            <p:cNvGrpSpPr/>
            <p:nvPr/>
          </p:nvGrpSpPr>
          <p:grpSpPr>
            <a:xfrm>
              <a:off x="274320" y="1601640"/>
              <a:ext cx="8534880" cy="4246560"/>
              <a:chOff x="274320" y="1601640"/>
              <a:chExt cx="8534880" cy="4246560"/>
            </a:xfrm>
          </p:grpSpPr>
          <p:sp>
            <p:nvSpPr>
              <p:cNvPr id="217" name="Rectangle 7"/>
              <p:cNvSpPr/>
              <p:nvPr/>
            </p:nvSpPr>
            <p:spPr>
              <a:xfrm>
                <a:off x="274320" y="1601640"/>
                <a:ext cx="8534880" cy="42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КЛИНИЧКА СЛ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типично испољавање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g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нефропатиј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екурентна макроскопска хемат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ематурија истовремено са инфекцијом горњих респираторних путе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остали клинички синдром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g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нефропатије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кутни нефритички синдро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нефротски синдром (протеинурија ≥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симптоматска микрохематурија и протеин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ређа клиничка слика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Ig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нефропатиј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кутна инсуфицијенција бубрег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9f9f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"/>
              <p:cNvSpPr/>
              <p:nvPr/>
            </p:nvSpPr>
            <p:spPr>
              <a:xfrm flipV="1">
                <a:off x="291240" y="1654200"/>
                <a:ext cx="843372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ЛИНИЧКА СЛИКА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257040" y="949320"/>
            <a:ext cx="8622000" cy="5581800"/>
            <a:chOff x="257040" y="949320"/>
            <a:chExt cx="8622000" cy="5581800"/>
          </a:xfrm>
        </p:grpSpPr>
        <p:sp>
          <p:nvSpPr>
            <p:cNvPr id="221" name="Rectangle 7"/>
            <p:cNvSpPr/>
            <p:nvPr/>
          </p:nvSpPr>
          <p:spPr>
            <a:xfrm>
              <a:off x="274320" y="1660320"/>
              <a:ext cx="8534880" cy="48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намнеза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пизоде видљиве крви у мокраћи повезане са инфекцијом горњ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сајних путева (гломерулска хематуриј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зикални преглед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идљива крв у мокраћ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абораторија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у серуму код 50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A/C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≥ 3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оненте комплемента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и C4 у серуму су нормал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теинурија ненефротског ран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димент урин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еритроцитни цилиндр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кантоцитурија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ЈГФ: на почетку нормална, током времена се смању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291960" y="1698480"/>
              <a:ext cx="8433360" cy="288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"/>
          <p:cNvGrpSpPr/>
          <p:nvPr/>
        </p:nvGrpSpPr>
        <p:grpSpPr>
          <a:xfrm>
            <a:off x="257040" y="949320"/>
            <a:ext cx="8622000" cy="5567400"/>
            <a:chOff x="257040" y="949320"/>
            <a:chExt cx="8622000" cy="5567400"/>
          </a:xfrm>
        </p:grpSpPr>
        <p:grpSp>
          <p:nvGrpSpPr>
            <p:cNvPr id="225" name="Group 5"/>
            <p:cNvGrpSpPr/>
            <p:nvPr/>
          </p:nvGrpSpPr>
          <p:grpSpPr>
            <a:xfrm>
              <a:off x="320400" y="1646280"/>
              <a:ext cx="8433360" cy="4870440"/>
              <a:chOff x="320400" y="1646280"/>
              <a:chExt cx="8433360" cy="4870440"/>
            </a:xfrm>
          </p:grpSpPr>
          <p:sp>
            <p:nvSpPr>
              <p:cNvPr id="226" name="Line 5"/>
              <p:cNvSpPr/>
              <p:nvPr/>
            </p:nvSpPr>
            <p:spPr>
              <a:xfrm flipV="1">
                <a:off x="320400" y="16837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469800" y="1646280"/>
                <a:ext cx="8128440" cy="48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ИОПСИЈА БУБРЕГА (златни стандард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ПАТОХИСТОЛОШКИ НАЛАЗ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мезангијумских ћел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мунски депозити у мезангиј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ћелијски полумесеци (ретко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кална или дифузна интерстицијумска фиброза и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ранулирани имунски депозити у мезангијуму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Ig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гранулирани имунски депозити у мезангиј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мезангијумских ћел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ћелијски полумесеци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(ретко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трофија тубула и ожиљавање интерстицију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4"/>
          <p:cNvGrpSpPr/>
          <p:nvPr/>
        </p:nvGrpSpPr>
        <p:grpSpPr>
          <a:xfrm>
            <a:off x="257040" y="949320"/>
            <a:ext cx="8622000" cy="4079880"/>
            <a:chOff x="257040" y="949320"/>
            <a:chExt cx="8622000" cy="4079880"/>
          </a:xfrm>
        </p:grpSpPr>
        <p:sp>
          <p:nvSpPr>
            <p:cNvPr id="230" name="Rectangle 7"/>
            <p:cNvSpPr/>
            <p:nvPr/>
          </p:nvSpPr>
          <p:spPr>
            <a:xfrm>
              <a:off x="274320" y="1703160"/>
              <a:ext cx="85348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РТИКОСТЕРОИД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(“Pozzi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regimen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"/>
            <p:cNvSpPr/>
            <p:nvPr/>
          </p:nvSpPr>
          <p:spPr>
            <a:xfrm>
              <a:off x="257040" y="94932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IgA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 flipV="1">
              <a:off x="291960" y="1698480"/>
              <a:ext cx="8433360" cy="288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350640" y="2308320"/>
              <a:ext cx="6238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974520" y="2308320"/>
              <a:ext cx="78094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илпреднизолон 1.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.v.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, три узастопна дана (месец: 1,3,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50640" y="2798640"/>
              <a:ext cx="6238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974520" y="2798640"/>
              <a:ext cx="78094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низон/пронизон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os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.5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g/kg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ваки други дан (месец: 1-6)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350640" y="3292560"/>
              <a:ext cx="6238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974520" y="3292560"/>
              <a:ext cx="78094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i/ARB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а оптималну контролу крвног притиска: </a:t>
              </a:r>
              <a:r>
                <a:rPr b="1" lang="sr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25/7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677520" y="4040280"/>
              <a:ext cx="780768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теинурија </a:t>
              </a:r>
              <a:r>
                <a:rPr b="1" lang="sr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50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g/24h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677520" y="4535640"/>
              <a:ext cx="7806240" cy="493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центрација креатинина у серуму повећ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4"/>
          <p:cNvGrpSpPr/>
          <p:nvPr/>
        </p:nvGrpSpPr>
        <p:grpSpPr>
          <a:xfrm>
            <a:off x="247680" y="1130400"/>
            <a:ext cx="8621640" cy="4340160"/>
            <a:chOff x="247680" y="1130400"/>
            <a:chExt cx="8621640" cy="4340160"/>
          </a:xfrm>
        </p:grpSpPr>
        <p:sp>
          <p:nvSpPr>
            <p:cNvPr id="242" name="Rectangle 3"/>
            <p:cNvSpPr/>
            <p:nvPr/>
          </p:nvSpPr>
          <p:spPr>
            <a:xfrm>
              <a:off x="247680" y="1130400"/>
              <a:ext cx="8621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320400" y="16812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446040" y="472932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 flipV="1">
            <a:off x="339840" y="1595520"/>
            <a:ext cx="843264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9200" y="1638360"/>
            <a:ext cx="8433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ЛОМЕРУЛОНЕФРИТ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 2" charset="2"/>
              <a:buChar char="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марна, идиопатска болест бубрега, непознатог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 2" charset="2"/>
              <a:buChar char="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мене се јављају једино или претежно у гломеру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37960" y="1057320"/>
            <a:ext cx="862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ДЕЛА ГЛОМЕРУЛОНЕФР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39840" y="1666800"/>
            <a:ext cx="8432640" cy="492444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49200" y="3124080"/>
            <a:ext cx="84330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КУНДАР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ЛОМЕРУЛОНЕФРИТ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 2" charset="2"/>
              <a:buChar char="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ављају се у току различитих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истемск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лед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таболичк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 2" charset="2"/>
              <a:buChar char="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мене се јављају у гломеру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трарналне манифестације претходе оштећењу гломер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штећења гломерула могу бити прва и једина манифест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257040" y="1152360"/>
            <a:ext cx="8622000" cy="5364360"/>
            <a:chOff x="257040" y="1152360"/>
            <a:chExt cx="8622000" cy="5364360"/>
          </a:xfrm>
        </p:grpSpPr>
        <p:sp>
          <p:nvSpPr>
            <p:cNvPr id="246" name="Rectangle 3"/>
            <p:cNvSpPr/>
            <p:nvPr/>
          </p:nvSpPr>
          <p:spPr>
            <a:xfrm>
              <a:off x="257040" y="115236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lomerulonephritis rapidoprogres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348840" y="200016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344160" y="1962000"/>
              <a:ext cx="8423640" cy="45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је клинички синдром који се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рф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тварањем ћелијских полумесец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испољава се клиничком слик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нефритиса са брзим и прогресивним смањењем функције бубрега, 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о се не лечи завршава терминалном инсуфицијенцијом бубрега за неколи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деља или месец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епителних ћелија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owma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ове капсу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тварање полумесечастих формација (ћелијски и ожиљни полумесец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умесечасте формације присутне су у више од 50%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кутним нефритичким 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0"/>
          <p:cNvGrpSpPr/>
          <p:nvPr/>
        </p:nvGrpSpPr>
        <p:grpSpPr>
          <a:xfrm>
            <a:off x="237960" y="919080"/>
            <a:ext cx="8645760" cy="5684760"/>
            <a:chOff x="237960" y="919080"/>
            <a:chExt cx="8645760" cy="5684760"/>
          </a:xfrm>
        </p:grpSpPr>
        <p:sp>
          <p:nvSpPr>
            <p:cNvPr id="250" name="Line 5"/>
            <p:cNvSpPr/>
            <p:nvPr/>
          </p:nvSpPr>
          <p:spPr>
            <a:xfrm flipV="1">
              <a:off x="320400" y="158688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329760" y="1653840"/>
              <a:ext cx="8424000" cy="1030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ЕТИ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ПРИМАРНИ БРЗОПРОГРЕС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СЕКУНДАРНИ БРЗОПРОГРЕС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237960" y="2790720"/>
              <a:ext cx="8645760" cy="38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ИМАРНИ БРЗОПРОГРЕС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ТИП 1: посредован анти-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GBM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-антителима, без плућних крвављења</a:t>
              </a:r>
              <a:r>
                <a:rPr b="1" i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ИП 2: посредован имунским комплексима (без анти-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GBM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без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ANCA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ТИП 3: слабо имуни (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pauci immune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са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ANCA</a:t>
              </a: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"/>
            <p:cNvSpPr/>
            <p:nvPr/>
          </p:nvSpPr>
          <p:spPr>
            <a:xfrm>
              <a:off x="256680" y="91908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5"/>
          <p:cNvGrpSpPr/>
          <p:nvPr/>
        </p:nvGrpSpPr>
        <p:grpSpPr>
          <a:xfrm>
            <a:off x="237960" y="831960"/>
            <a:ext cx="8645760" cy="5743440"/>
            <a:chOff x="237960" y="831960"/>
            <a:chExt cx="8645760" cy="5743440"/>
          </a:xfrm>
        </p:grpSpPr>
        <p:sp>
          <p:nvSpPr>
            <p:cNvPr id="255" name="Line 5"/>
            <p:cNvSpPr/>
            <p:nvPr/>
          </p:nvSpPr>
          <p:spPr>
            <a:xfrm flipV="1">
              <a:off x="320400" y="150012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237960" y="1558800"/>
              <a:ext cx="864576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СЕКУНДАРНИ БРЗОПРОГРЕСИВНИ ГЛОМЕРУЛОНЕФРИТИ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УДРУЖЕН СА ПРИМАРНИМ ГЛОМЕРУЛОНЕФРИТИС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 (посебно тип 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фропат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фокално-сегментна гломерулоскле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ДРУЖЕН СА ИНФЕКТИВНИМ БОЛЕСТ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фективни ендокард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исцерални апсц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епатитис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екције микоплаз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истоплазм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9280" indent="-262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"/>
            <p:cNvSpPr/>
            <p:nvPr/>
          </p:nvSpPr>
          <p:spPr>
            <a:xfrm>
              <a:off x="256680" y="83196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5"/>
          <p:cNvSpPr/>
          <p:nvPr/>
        </p:nvSpPr>
        <p:spPr>
          <a:xfrm flipV="1">
            <a:off x="320760" y="1499760"/>
            <a:ext cx="8432640" cy="180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285840" y="831960"/>
            <a:ext cx="8496360" cy="5743440"/>
            <a:chOff x="285840" y="831960"/>
            <a:chExt cx="8496360" cy="5743440"/>
          </a:xfrm>
        </p:grpSpPr>
        <p:sp>
          <p:nvSpPr>
            <p:cNvPr id="260" name="Rectangle 8"/>
            <p:cNvSpPr/>
            <p:nvPr/>
          </p:nvSpPr>
          <p:spPr>
            <a:xfrm>
              <a:off x="320760" y="1558800"/>
              <a:ext cx="8461440" cy="50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СЕКУНДАРНИ БРЗОПРОГРЕСИВНИ ГЛОМЕРУЛОНЕФРИТИ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УДРУЖЕН СА СИСТЕМСКИМ БОЛЕСТ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истемски еритемски лупу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Goodpasture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 синдром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nlein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а пурпу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истемски васкулитиси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икроскопски полианги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Wegener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а грануломат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hurg-Strauss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шовита криоглобулин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УДРУЖЕН СА МАЛИГНИМ БОЛЕСТ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арцином плућа, карцином проста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УДРУЖЕН СА ЛЕКОВ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алопурин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рифамп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еницила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идралаз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"/>
            <p:cNvSpPr/>
            <p:nvPr/>
          </p:nvSpPr>
          <p:spPr>
            <a:xfrm>
              <a:off x="285840" y="831960"/>
              <a:ext cx="8496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6"/>
          <p:cNvGrpSpPr/>
          <p:nvPr/>
        </p:nvGrpSpPr>
        <p:grpSpPr>
          <a:xfrm>
            <a:off x="176040" y="831960"/>
            <a:ext cx="8731440" cy="5743440"/>
            <a:chOff x="176040" y="831960"/>
            <a:chExt cx="8731440" cy="5743440"/>
          </a:xfrm>
        </p:grpSpPr>
        <p:sp>
          <p:nvSpPr>
            <p:cNvPr id="263" name="Rectangle 8"/>
            <p:cNvSpPr/>
            <p:nvPr/>
          </p:nvSpPr>
          <p:spPr>
            <a:xfrm>
              <a:off x="176040" y="1559520"/>
              <a:ext cx="8717040" cy="50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ТИП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9f9f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суство антитела на антигене базалне мембране гломерула (анти-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B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колагени домен алфа 3 ланца колагена тип 4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D-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зивањем антитела за антигене долази до активације система комплемен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ктивисани неутрофили оштећују зид капилар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азак неутрофила, моноцита/макрофага, Т-лимфоцита у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owma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стор и стварање полумесе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паријеталних и висцералних епителних ћелиј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имеризација фибрина (од фибриногена који доспева у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owman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в прост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buClr>
                  <a:srgbClr val="ff9f9f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купљање моноцита, макрофага, Т-лимфоцита, продирање ћелија миобла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з интерстициј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-19512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719280" indent="-262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90440" y="831960"/>
              <a:ext cx="8717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5"/>
          <p:cNvSpPr/>
          <p:nvPr/>
        </p:nvSpPr>
        <p:spPr>
          <a:xfrm flipV="1">
            <a:off x="295200" y="1509840"/>
            <a:ext cx="843300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267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268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ПАТОХИСТОЛОГ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паријеталних и висцералних ћелија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тварање полумесечастих формација/творевина (ћелијски, ожиљни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апиларни тромби и некроза њихових зидо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зражена перигломерулска запаљенска инфилтр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едем интерстицијума,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инеарни депозити дуж базалне мембране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брин у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owman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вом простор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лумесечасте творевине/формациј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екид зида капилара у пределу полумесечастих творев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5"/>
          <p:cNvGrpSpPr/>
          <p:nvPr/>
        </p:nvGrpSpPr>
        <p:grpSpPr>
          <a:xfrm>
            <a:off x="247680" y="1030320"/>
            <a:ext cx="8621640" cy="5472000"/>
            <a:chOff x="247680" y="1030320"/>
            <a:chExt cx="8621640" cy="5472000"/>
          </a:xfrm>
        </p:grpSpPr>
        <p:grpSp>
          <p:nvGrpSpPr>
            <p:cNvPr id="272" name="Group 3"/>
            <p:cNvGrpSpPr/>
            <p:nvPr/>
          </p:nvGrpSpPr>
          <p:grpSpPr>
            <a:xfrm>
              <a:off x="247680" y="1030320"/>
              <a:ext cx="8621640" cy="5472000"/>
              <a:chOff x="247680" y="1030320"/>
              <a:chExt cx="8621640" cy="5472000"/>
            </a:xfrm>
          </p:grpSpPr>
          <p:sp>
            <p:nvSpPr>
              <p:cNvPr id="273" name="Rectangle 3"/>
              <p:cNvSpPr/>
              <p:nvPr/>
            </p:nvSpPr>
            <p:spPr>
              <a:xfrm>
                <a:off x="247680" y="1030320"/>
                <a:ext cx="8621640" cy="80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8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7"/>
              <p:cNvSpPr/>
              <p:nvPr/>
            </p:nvSpPr>
            <p:spPr>
              <a:xfrm>
                <a:off x="274320" y="1838160"/>
                <a:ext cx="8534520" cy="466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КЛИНИЧКА СЛ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најчешће се испољава клиничком сликом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акутног нефритичког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синдро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исуство крви у мокраћи, појава отока, олигурија/ан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убрежна функција се брзо и прогресивно смању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емија израженија него што би одговарало степену функције бубрег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имптоми и знаци уремијског синдрома и хиперволем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5"/>
            <p:cNvSpPr/>
            <p:nvPr/>
          </p:nvSpPr>
          <p:spPr>
            <a:xfrm flipV="1">
              <a:off x="291600" y="164124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277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278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МНЕЗ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алаксалост, замарање, артралгије, благо повишена температур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исуство крви у мокраћи и присуство ед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рв у мокраћи, присуство едема, знаци хиперволем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АБОРАТОРИЈА: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 и прогресивни пораст концентрације креатинина у сер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о и прогресивно опадање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JG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икрохематурија: еритроцитни цилиндри у седименту ур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ненефротског ранга (&lt;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лизе имунског система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BM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антитела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Ig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нцентрација компоненти комплемента у серуму нормал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зитивна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NC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д 30% болесн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282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283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ИОПСИЈА БУБРЕГ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паријеталних и висцералних ћелија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тварање полумесечастих формација/творевина (ћелијски, ожиљни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апиларни тромби и некроза њихових зидо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зражена перигломерулска запаљенска инфилтр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едем интерстицијума,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инеарни депозити дуж базалне мембране гломерула (тип 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брин у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owman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вом простор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лумесечасте творевине/формациј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екид зида капилара у пределу полумесечастих творев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287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288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МНЕЗ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алаксалост, замарање, артралгије, благо повишена температур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исуство крви у мокраћи и присуство ото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рв у мокраћи, присуство отока, знаци хиперволем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АБОРАТОРИЈА: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 и прогресивни пораст концентрације креатинина у сер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о и прогресивно опадање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JG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икрохематурија: еритроцитни цилиндри у седименту ур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ненефротског ранга (&lt;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лизе имунског система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мунски комплекси у сер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риоглобулини у серуму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нцентрација компоненти комплемента у серуму је снижена 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BM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и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NC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тела су негатив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 flipV="1">
            <a:off x="339840" y="1595520"/>
            <a:ext cx="843264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49200" y="1638360"/>
            <a:ext cx="8433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ПРОЛИФЕРАТИВ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ЛОМЕРУЛОНЕФРИТ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мене базалне мембране гломер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цеси склер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37960" y="1057320"/>
            <a:ext cx="862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ДЕЛА ГЛОМЕРУЛОНЕФР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39840" y="1666800"/>
            <a:ext cx="8432640" cy="492444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49200" y="3124080"/>
            <a:ext cx="8433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ЛИФЕРАТИВ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ЛОМЕРУЛОНЕФРИТ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окални: захваћени само неко гломеру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ифузни: захваћени сви или готово сви гломеру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гментни: захваћен само један део гломер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7575"/>
              </a:buClr>
              <a:buFont typeface="Wingdings" charset="2"/>
              <a:buChar char="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лобални: захваћен цео гломер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292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293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ИОПСИЈА БУБРЕГ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паријеталних и висцералних ћелија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тварање полумесечастих формација/творевина (ћелијски, ожиљни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апиларни тромби и некроза њихових зидо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зражена перигломерулска запаљенска инфилтр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едем интерстицијума,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гранулирани депозити дуж базалне мембране гломерула (тип 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брин у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owman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вом простор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лумесечасте творевине/формациј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екид зида капилара у пределу полумесечастих творев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5"/>
          <p:cNvGrpSpPr/>
          <p:nvPr/>
        </p:nvGrpSpPr>
        <p:grpSpPr>
          <a:xfrm>
            <a:off x="271440" y="833400"/>
            <a:ext cx="8621640" cy="5797440"/>
            <a:chOff x="271440" y="833400"/>
            <a:chExt cx="8621640" cy="5797440"/>
          </a:xfrm>
        </p:grpSpPr>
        <p:grpSp>
          <p:nvGrpSpPr>
            <p:cNvPr id="297" name="Group 5"/>
            <p:cNvGrpSpPr/>
            <p:nvPr/>
          </p:nvGrpSpPr>
          <p:grpSpPr>
            <a:xfrm>
              <a:off x="320400" y="1495080"/>
              <a:ext cx="8433000" cy="5135760"/>
              <a:chOff x="320400" y="1495080"/>
              <a:chExt cx="8433000" cy="5135760"/>
            </a:xfrm>
          </p:grpSpPr>
          <p:sp>
            <p:nvSpPr>
              <p:cNvPr id="298" name="Line 5"/>
              <p:cNvSpPr/>
              <p:nvPr/>
            </p:nvSpPr>
            <p:spPr>
              <a:xfrm flipV="1">
                <a:off x="320400" y="1495080"/>
                <a:ext cx="843300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7"/>
              <p:cNvSpPr/>
              <p:nvPr/>
            </p:nvSpPr>
            <p:spPr>
              <a:xfrm>
                <a:off x="320400" y="1602360"/>
                <a:ext cx="8433000" cy="50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МНЕЗ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алаксалост, замарање, артралгије, благо повишена температур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исуство крви у мокраћи и присуство ото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рв у мокраћи, присуство отока, знаци хиперволем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АБОРАТОРИЈА: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 и прогресивни пораст концентрације креатинина у серум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брзо и прогресивно опадање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JG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икрохематурија: еритроцитни цилиндри у седименту ур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ненефротског ранга (&lt;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ализе имунског система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мунски комплекси у сеуму нормалн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нцентрација компоненти комплемента у серуму је снижена 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BM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антитела су негатив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NC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тела позитивна код 70-90% болесн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"/>
            <p:cNvSpPr/>
            <p:nvPr/>
          </p:nvSpPr>
          <p:spPr>
            <a:xfrm>
              <a:off x="271440" y="833400"/>
              <a:ext cx="86216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"/>
          <p:cNvGrpSpPr/>
          <p:nvPr/>
        </p:nvGrpSpPr>
        <p:grpSpPr>
          <a:xfrm>
            <a:off x="257040" y="876240"/>
            <a:ext cx="8622000" cy="5567400"/>
            <a:chOff x="257040" y="876240"/>
            <a:chExt cx="8622000" cy="5567400"/>
          </a:xfrm>
        </p:grpSpPr>
        <p:grpSp>
          <p:nvGrpSpPr>
            <p:cNvPr id="302" name="Group 5"/>
            <p:cNvGrpSpPr/>
            <p:nvPr/>
          </p:nvGrpSpPr>
          <p:grpSpPr>
            <a:xfrm>
              <a:off x="320400" y="1537920"/>
              <a:ext cx="8433360" cy="4905720"/>
              <a:chOff x="320400" y="1537920"/>
              <a:chExt cx="8433360" cy="4905720"/>
            </a:xfrm>
          </p:grpSpPr>
          <p:sp>
            <p:nvSpPr>
              <p:cNvPr id="303" name="Line 5"/>
              <p:cNvSpPr/>
              <p:nvPr/>
            </p:nvSpPr>
            <p:spPr>
              <a:xfrm flipV="1">
                <a:off x="320400" y="153792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"/>
              <p:cNvSpPr/>
              <p:nvPr/>
            </p:nvSpPr>
            <p:spPr>
              <a:xfrm>
                <a:off x="320400" y="1572840"/>
                <a:ext cx="8433360" cy="48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ТИП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БИОПСИЈА БУБРЕГ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ветлос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иферација паријеталних и висцералних ћелија гломер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тварање полумесечастих формација/творевина (ћелијски, ожиљни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апиларни тромби и некроза њихових зидо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зражена перигломерулска запаљенска инфилтр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едем интерстицијума, атрофија тубу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мунофлуоросцентна микроскопија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</a:rPr>
                  <a:t>одсуство депозита (слабо имуни) (тип 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електронс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икроскоп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брин у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owman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вом простор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лумесечасте творевине/формациј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екид зида капилара у пределу полумесечастих творев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62080" indent="-26208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3"/>
            <p:cNvSpPr/>
            <p:nvPr/>
          </p:nvSpPr>
          <p:spPr>
            <a:xfrm>
              <a:off x="257040" y="87624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257040" y="876240"/>
            <a:ext cx="862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ЗОПРОГРЕСИВНИ ГЛОМЕРУЛОНЕФРИТ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6"/>
          <p:cNvGrpSpPr/>
          <p:nvPr/>
        </p:nvGrpSpPr>
        <p:grpSpPr>
          <a:xfrm>
            <a:off x="243000" y="1538280"/>
            <a:ext cx="8638920" cy="2873520"/>
            <a:chOff x="243000" y="1538280"/>
            <a:chExt cx="8638920" cy="2873520"/>
          </a:xfrm>
        </p:grpSpPr>
        <p:sp>
          <p:nvSpPr>
            <p:cNvPr id="308" name="Line 5"/>
            <p:cNvSpPr/>
            <p:nvPr/>
          </p:nvSpPr>
          <p:spPr>
            <a:xfrm flipV="1">
              <a:off x="320760" y="153828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44"/>
            <p:cNvGrpSpPr/>
            <p:nvPr/>
          </p:nvGrpSpPr>
          <p:grpSpPr>
            <a:xfrm>
              <a:off x="243000" y="1645920"/>
              <a:ext cx="8638920" cy="2765880"/>
              <a:chOff x="243000" y="1645920"/>
              <a:chExt cx="8638920" cy="2765880"/>
            </a:xfrm>
          </p:grpSpPr>
          <p:sp>
            <p:nvSpPr>
              <p:cNvPr id="310" name="Rectangle 6"/>
              <p:cNvSpPr/>
              <p:nvPr/>
            </p:nvSpPr>
            <p:spPr>
              <a:xfrm>
                <a:off x="243000" y="1645920"/>
                <a:ext cx="92700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и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1170000" y="1645920"/>
                <a:ext cx="140796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линичк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л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8"/>
              <p:cNvSpPr/>
              <p:nvPr/>
            </p:nvSpPr>
            <p:spPr>
              <a:xfrm>
                <a:off x="2577960" y="1645920"/>
                <a:ext cx="2398680" cy="296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томорфолог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4976640" y="1645920"/>
                <a:ext cx="61560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0"/>
              <p:cNvSpPr/>
              <p:nvPr/>
            </p:nvSpPr>
            <p:spPr>
              <a:xfrm>
                <a:off x="6867360" y="1645920"/>
                <a:ext cx="8794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нти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B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1"/>
              <p:cNvSpPr/>
              <p:nvPr/>
            </p:nvSpPr>
            <p:spPr>
              <a:xfrm>
                <a:off x="5591160" y="1645920"/>
                <a:ext cx="6238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2"/>
              <p:cNvSpPr/>
              <p:nvPr/>
            </p:nvSpPr>
            <p:spPr>
              <a:xfrm>
                <a:off x="6215040" y="1645920"/>
                <a:ext cx="65232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3"/>
              <p:cNvSpPr/>
              <p:nvPr/>
            </p:nvSpPr>
            <p:spPr>
              <a:xfrm>
                <a:off x="7747200" y="1645920"/>
                <a:ext cx="113472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4"/>
              <p:cNvSpPr/>
              <p:nvPr/>
            </p:nvSpPr>
            <p:spPr>
              <a:xfrm>
                <a:off x="2577960" y="1942560"/>
                <a:ext cx="1063440" cy="291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птички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3641760" y="1942560"/>
                <a:ext cx="1334880" cy="291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6"/>
              <p:cNvSpPr/>
              <p:nvPr/>
            </p:nvSpPr>
            <p:spPr>
              <a:xfrm>
                <a:off x="243000" y="2234880"/>
                <a:ext cx="92700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7"/>
              <p:cNvSpPr/>
              <p:nvPr/>
            </p:nvSpPr>
            <p:spPr>
              <a:xfrm>
                <a:off x="1170000" y="2234880"/>
                <a:ext cx="140796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8"/>
              <p:cNvSpPr/>
              <p:nvPr/>
            </p:nvSpPr>
            <p:spPr>
              <a:xfrm>
                <a:off x="2577960" y="2236320"/>
                <a:ext cx="1063440" cy="58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КП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9"/>
              <p:cNvSpPr/>
              <p:nvPr/>
            </p:nvSpPr>
            <p:spPr>
              <a:xfrm>
                <a:off x="3641760" y="2234880"/>
                <a:ext cx="13348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линеарни депозти</a:t>
                </a:r>
                <a:r>
                  <a:rPr b="1" lang="sr-Latn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0"/>
              <p:cNvSpPr/>
              <p:nvPr/>
            </p:nvSpPr>
            <p:spPr>
              <a:xfrm>
                <a:off x="4976640" y="2236320"/>
                <a:ext cx="615600" cy="58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.о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1"/>
              <p:cNvSpPr/>
              <p:nvPr/>
            </p:nvSpPr>
            <p:spPr>
              <a:xfrm>
                <a:off x="5591160" y="2234880"/>
                <a:ext cx="6238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.о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2"/>
              <p:cNvSpPr/>
              <p:nvPr/>
            </p:nvSpPr>
            <p:spPr>
              <a:xfrm>
                <a:off x="6215040" y="2234880"/>
                <a:ext cx="65232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.о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3"/>
              <p:cNvSpPr/>
              <p:nvPr/>
            </p:nvSpPr>
            <p:spPr>
              <a:xfrm>
                <a:off x="6867360" y="2234880"/>
                <a:ext cx="8794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7747200" y="2236320"/>
                <a:ext cx="1134720" cy="58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30%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5"/>
              <p:cNvSpPr/>
              <p:nvPr/>
            </p:nvSpPr>
            <p:spPr>
              <a:xfrm>
                <a:off x="243000" y="2823840"/>
                <a:ext cx="92700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6"/>
              <p:cNvSpPr/>
              <p:nvPr/>
            </p:nvSpPr>
            <p:spPr>
              <a:xfrm>
                <a:off x="1170000" y="2823840"/>
                <a:ext cx="140796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2577960" y="2823840"/>
                <a:ext cx="106344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КП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8"/>
              <p:cNvSpPr/>
              <p:nvPr/>
            </p:nvSpPr>
            <p:spPr>
              <a:xfrm>
                <a:off x="3641760" y="2823840"/>
                <a:ext cx="133488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гранулирани депозти</a:t>
                </a:r>
                <a:r>
                  <a:rPr b="1" lang="sr-Latn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4976640" y="2823840"/>
                <a:ext cx="615600" cy="592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5591160" y="2823840"/>
                <a:ext cx="62388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1"/>
              <p:cNvSpPr/>
              <p:nvPr/>
            </p:nvSpPr>
            <p:spPr>
              <a:xfrm>
                <a:off x="6215040" y="2823840"/>
                <a:ext cx="65232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2"/>
              <p:cNvSpPr/>
              <p:nvPr/>
            </p:nvSpPr>
            <p:spPr>
              <a:xfrm>
                <a:off x="6867360" y="2823840"/>
                <a:ext cx="87948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7747200" y="2823840"/>
                <a:ext cx="1134720" cy="592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4"/>
              <p:cNvSpPr/>
              <p:nvPr/>
            </p:nvSpPr>
            <p:spPr>
              <a:xfrm>
                <a:off x="243000" y="3416400"/>
                <a:ext cx="92700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35"/>
              <p:cNvSpPr/>
              <p:nvPr/>
            </p:nvSpPr>
            <p:spPr>
              <a:xfrm>
                <a:off x="1170000" y="3416400"/>
                <a:ext cx="140796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G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36"/>
              <p:cNvSpPr/>
              <p:nvPr/>
            </p:nvSpPr>
            <p:spPr>
              <a:xfrm>
                <a:off x="2577960" y="3416400"/>
                <a:ext cx="106344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КП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7"/>
              <p:cNvSpPr/>
              <p:nvPr/>
            </p:nvSpPr>
            <p:spPr>
              <a:xfrm>
                <a:off x="3641760" y="3416400"/>
                <a:ext cx="13348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ез депозит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8"/>
              <p:cNvSpPr/>
              <p:nvPr/>
            </p:nvSpPr>
            <p:spPr>
              <a:xfrm>
                <a:off x="4976640" y="3416400"/>
                <a:ext cx="61560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39"/>
              <p:cNvSpPr/>
              <p:nvPr/>
            </p:nvSpPr>
            <p:spPr>
              <a:xfrm>
                <a:off x="5591160" y="3416400"/>
                <a:ext cx="6238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40"/>
              <p:cNvSpPr/>
              <p:nvPr/>
            </p:nvSpPr>
            <p:spPr>
              <a:xfrm>
                <a:off x="6215040" y="3416400"/>
                <a:ext cx="65232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.о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41"/>
              <p:cNvSpPr/>
              <p:nvPr/>
            </p:nvSpPr>
            <p:spPr>
              <a:xfrm>
                <a:off x="6867360" y="3416400"/>
                <a:ext cx="879480" cy="58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42"/>
              <p:cNvSpPr/>
              <p:nvPr/>
            </p:nvSpPr>
            <p:spPr>
              <a:xfrm>
                <a:off x="7747200" y="3416400"/>
                <a:ext cx="1134720" cy="590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75-90%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43"/>
              <p:cNvSpPr/>
              <p:nvPr/>
            </p:nvSpPr>
            <p:spPr>
              <a:xfrm>
                <a:off x="243000" y="4005360"/>
                <a:ext cx="86389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GN</a:t>
                </a:r>
                <a:r>
                  <a:rPr b="1" lang="sr-R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- брзопрогресивни гломерулонефритис, ЕКП - екстракапиларни полумесец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45"/>
            <p:cNvSpPr/>
            <p:nvPr/>
          </p:nvSpPr>
          <p:spPr>
            <a:xfrm>
              <a:off x="5159880" y="3518280"/>
              <a:ext cx="2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5"/>
          <p:cNvGrpSpPr/>
          <p:nvPr/>
        </p:nvGrpSpPr>
        <p:grpSpPr>
          <a:xfrm>
            <a:off x="247680" y="870120"/>
            <a:ext cx="8621640" cy="5810040"/>
            <a:chOff x="247680" y="870120"/>
            <a:chExt cx="8621640" cy="5810040"/>
          </a:xfrm>
        </p:grpSpPr>
        <p:grpSp>
          <p:nvGrpSpPr>
            <p:cNvPr id="350" name="Group 5"/>
            <p:cNvGrpSpPr/>
            <p:nvPr/>
          </p:nvGrpSpPr>
          <p:grpSpPr>
            <a:xfrm>
              <a:off x="247680" y="870120"/>
              <a:ext cx="8621640" cy="871560"/>
              <a:chOff x="247680" y="870120"/>
              <a:chExt cx="8621640" cy="871560"/>
            </a:xfrm>
          </p:grpSpPr>
          <p:sp>
            <p:nvSpPr>
              <p:cNvPr id="351" name="Rectangle 3"/>
              <p:cNvSpPr/>
              <p:nvPr/>
            </p:nvSpPr>
            <p:spPr>
              <a:xfrm>
                <a:off x="247680" y="870120"/>
                <a:ext cx="862164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5"/>
              <p:cNvSpPr/>
              <p:nvPr/>
            </p:nvSpPr>
            <p:spPr>
              <a:xfrm flipV="1">
                <a:off x="320760" y="1496520"/>
                <a:ext cx="843300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Rectangle 7"/>
            <p:cNvSpPr/>
            <p:nvPr/>
          </p:nvSpPr>
          <p:spPr>
            <a:xfrm>
              <a:off x="339480" y="1487520"/>
              <a:ext cx="8413920" cy="51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ТИП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тилпреднизолон 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узија/дан, три дана, а зат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еднизон 1.0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(максимална доза 8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), у току 2-4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Циклофосфамид 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.v.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1 месечно у току 6 месеци, 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ти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једном у три месеца у току две године и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.5-2.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per os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 току три месеца (12 недељ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аферез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онцентрација креатинина у серуму већа од 5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вакодневно у току 14 дана или док титар анти-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GBM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буде немерљи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ња се 1.0-1.5 волумен плазме (</a:t>
              </a:r>
              <a:r>
                <a:rPr b="1" lang="sr-R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4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 супституцију плазме користи се 5% раствор албум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а крају сваке сеансе плазмаферезе додаје се 150-3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исутно крварење у плућ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ируршка интервен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рађена биопсиј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емодијали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36"/>
          <p:cNvGrpSpPr/>
          <p:nvPr/>
        </p:nvGrpSpPr>
        <p:grpSpPr>
          <a:xfrm>
            <a:off x="257040" y="789120"/>
            <a:ext cx="8622000" cy="5779800"/>
            <a:chOff x="257040" y="789120"/>
            <a:chExt cx="8622000" cy="5779800"/>
          </a:xfrm>
        </p:grpSpPr>
        <p:grpSp>
          <p:nvGrpSpPr>
            <p:cNvPr id="355" name="Group 5"/>
            <p:cNvGrpSpPr/>
            <p:nvPr/>
          </p:nvGrpSpPr>
          <p:grpSpPr>
            <a:xfrm>
              <a:off x="257040" y="789120"/>
              <a:ext cx="8622000" cy="5640840"/>
              <a:chOff x="257040" y="789120"/>
              <a:chExt cx="8622000" cy="564084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320400" y="1436400"/>
                <a:ext cx="8433360" cy="4993560"/>
                <a:chOff x="320400" y="1436400"/>
                <a:chExt cx="8433360" cy="4993560"/>
              </a:xfrm>
            </p:grpSpPr>
            <p:sp>
              <p:nvSpPr>
                <p:cNvPr id="357" name="Line 5"/>
                <p:cNvSpPr/>
                <p:nvPr/>
              </p:nvSpPr>
              <p:spPr>
                <a:xfrm flipV="1">
                  <a:off x="320400" y="1436400"/>
                  <a:ext cx="8433360" cy="1440"/>
                </a:xfrm>
                <a:prstGeom prst="line">
                  <a:avLst/>
                </a:prstGeom>
                <a:ln w="38160">
                  <a:solidFill>
                    <a:srgbClr val="ff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320400" y="1558440"/>
                  <a:ext cx="8433360" cy="48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Rectangle 3"/>
              <p:cNvSpPr/>
              <p:nvPr/>
            </p:nvSpPr>
            <p:spPr>
              <a:xfrm>
                <a:off x="257040" y="789120"/>
                <a:ext cx="86220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5"/>
            <p:cNvGrpSpPr/>
            <p:nvPr/>
          </p:nvGrpSpPr>
          <p:grpSpPr>
            <a:xfrm>
              <a:off x="320400" y="1480320"/>
              <a:ext cx="8433360" cy="5088600"/>
              <a:chOff x="320400" y="1480320"/>
              <a:chExt cx="8433360" cy="5088600"/>
            </a:xfrm>
          </p:grpSpPr>
          <p:sp>
            <p:nvSpPr>
              <p:cNvPr id="361" name="Rectangle 6"/>
              <p:cNvSpPr/>
              <p:nvPr/>
            </p:nvSpPr>
            <p:spPr>
              <a:xfrm>
                <a:off x="320400" y="1480320"/>
                <a:ext cx="843336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РТИКОСТЕРОИД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7"/>
              <p:cNvSpPr/>
              <p:nvPr/>
            </p:nvSpPr>
            <p:spPr>
              <a:xfrm>
                <a:off x="320400" y="179928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едељ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0"/>
              <p:cNvSpPr/>
              <p:nvPr/>
            </p:nvSpPr>
            <p:spPr>
              <a:xfrm>
                <a:off x="2452320" y="179928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оза преднизо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"/>
              <p:cNvSpPr/>
              <p:nvPr/>
            </p:nvSpPr>
            <p:spPr>
              <a:xfrm>
                <a:off x="320400" y="2118600"/>
                <a:ext cx="2131920" cy="944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2"/>
              <p:cNvSpPr/>
              <p:nvPr/>
            </p:nvSpPr>
            <p:spPr>
              <a:xfrm>
                <a:off x="2452320" y="2118600"/>
                <a:ext cx="6301440" cy="944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етилпреднизолон 500-1000 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.v.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ри дана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ставити са преднизоном 1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k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максимална доза 80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"/>
              <p:cNvSpPr/>
              <p:nvPr/>
            </p:nvSpPr>
            <p:spPr>
              <a:xfrm>
                <a:off x="320400" y="3063240"/>
                <a:ext cx="2131920" cy="31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4"/>
              <p:cNvSpPr/>
              <p:nvPr/>
            </p:nvSpPr>
            <p:spPr>
              <a:xfrm>
                <a:off x="2452320" y="3063240"/>
                <a:ext cx="6301440" cy="31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6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k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5"/>
              <p:cNvSpPr/>
              <p:nvPr/>
            </p:nvSpPr>
            <p:spPr>
              <a:xfrm>
                <a:off x="320400" y="338076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6"/>
              <p:cNvSpPr/>
              <p:nvPr/>
            </p:nvSpPr>
            <p:spPr>
              <a:xfrm>
                <a:off x="2452320" y="338076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k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7"/>
              <p:cNvSpPr/>
              <p:nvPr/>
            </p:nvSpPr>
            <p:spPr>
              <a:xfrm>
                <a:off x="320400" y="370008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8"/>
              <p:cNvSpPr/>
              <p:nvPr/>
            </p:nvSpPr>
            <p:spPr>
              <a:xfrm>
                <a:off x="2452320" y="370008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9"/>
              <p:cNvSpPr/>
              <p:nvPr/>
            </p:nvSpPr>
            <p:spPr>
              <a:xfrm>
                <a:off x="320400" y="401904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-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20"/>
              <p:cNvSpPr/>
              <p:nvPr/>
            </p:nvSpPr>
            <p:spPr>
              <a:xfrm>
                <a:off x="2452320" y="401904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21"/>
              <p:cNvSpPr/>
              <p:nvPr/>
            </p:nvSpPr>
            <p:spPr>
              <a:xfrm>
                <a:off x="320400" y="4338360"/>
                <a:ext cx="2131920" cy="31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-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2"/>
              <p:cNvSpPr/>
              <p:nvPr/>
            </p:nvSpPr>
            <p:spPr>
              <a:xfrm>
                <a:off x="2452320" y="4338360"/>
                <a:ext cx="6301440" cy="31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23"/>
              <p:cNvSpPr/>
              <p:nvPr/>
            </p:nvSpPr>
            <p:spPr>
              <a:xfrm>
                <a:off x="320400" y="465588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-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24"/>
              <p:cNvSpPr/>
              <p:nvPr/>
            </p:nvSpPr>
            <p:spPr>
              <a:xfrm>
                <a:off x="2452320" y="465588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.5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25"/>
              <p:cNvSpPr/>
              <p:nvPr/>
            </p:nvSpPr>
            <p:spPr>
              <a:xfrm>
                <a:off x="320400" y="497484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-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26"/>
              <p:cNvSpPr/>
              <p:nvPr/>
            </p:nvSpPr>
            <p:spPr>
              <a:xfrm>
                <a:off x="2452320" y="497484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27"/>
              <p:cNvSpPr/>
              <p:nvPr/>
            </p:nvSpPr>
            <p:spPr>
              <a:xfrm>
                <a:off x="320400" y="529416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-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28"/>
              <p:cNvSpPr/>
              <p:nvPr/>
            </p:nvSpPr>
            <p:spPr>
              <a:xfrm>
                <a:off x="2452320" y="529416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5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29"/>
              <p:cNvSpPr/>
              <p:nvPr/>
            </p:nvSpPr>
            <p:spPr>
              <a:xfrm>
                <a:off x="320400" y="5613120"/>
                <a:ext cx="213192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-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30"/>
              <p:cNvSpPr/>
              <p:nvPr/>
            </p:nvSpPr>
            <p:spPr>
              <a:xfrm>
                <a:off x="2452320" y="561312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1"/>
              <p:cNvSpPr/>
              <p:nvPr/>
            </p:nvSpPr>
            <p:spPr>
              <a:xfrm>
                <a:off x="320400" y="5932440"/>
                <a:ext cx="2131920" cy="63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>
                <a:off x="2452320" y="5932440"/>
                <a:ext cx="6301440" cy="31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М 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70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 7.5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34"/>
              <p:cNvSpPr/>
              <p:nvPr/>
            </p:nvSpPr>
            <p:spPr>
              <a:xfrm>
                <a:off x="2452320" y="6249960"/>
                <a:ext cx="6301440" cy="318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M ≥ 70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 10 </a:t>
                </a:r>
                <a:r>
                  <a:rPr b="1" i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r>
                  <a:rPr b="1" lang="sr-R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5"/>
          <p:cNvGrpSpPr/>
          <p:nvPr/>
        </p:nvGrpSpPr>
        <p:grpSpPr>
          <a:xfrm>
            <a:off x="247680" y="870120"/>
            <a:ext cx="8621640" cy="5743440"/>
            <a:chOff x="247680" y="870120"/>
            <a:chExt cx="8621640" cy="5743440"/>
          </a:xfrm>
        </p:grpSpPr>
        <p:grpSp>
          <p:nvGrpSpPr>
            <p:cNvPr id="388" name="Group 5"/>
            <p:cNvGrpSpPr/>
            <p:nvPr/>
          </p:nvGrpSpPr>
          <p:grpSpPr>
            <a:xfrm>
              <a:off x="247680" y="870120"/>
              <a:ext cx="8621640" cy="871560"/>
              <a:chOff x="247680" y="870120"/>
              <a:chExt cx="8621640" cy="871560"/>
            </a:xfrm>
          </p:grpSpPr>
          <p:sp>
            <p:nvSpPr>
              <p:cNvPr id="389" name="Rectangle 3"/>
              <p:cNvSpPr/>
              <p:nvPr/>
            </p:nvSpPr>
            <p:spPr>
              <a:xfrm>
                <a:off x="247680" y="870120"/>
                <a:ext cx="862164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8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5"/>
              <p:cNvSpPr/>
              <p:nvPr/>
            </p:nvSpPr>
            <p:spPr>
              <a:xfrm flipV="1">
                <a:off x="320760" y="1496520"/>
                <a:ext cx="843300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Rectangle 7"/>
            <p:cNvSpPr/>
            <p:nvPr/>
          </p:nvSpPr>
          <p:spPr>
            <a:xfrm>
              <a:off x="339480" y="1420920"/>
              <a:ext cx="8413920" cy="51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ТИП 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тилпреднизолон 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узија/дан, три дана, а зат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еднизон 1.0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(максимална доза 8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), у току 2-4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Циклофосфамид 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.v.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1 месечно у току 6 месеци, 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ти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једном у три месеца у току две године и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.5-2.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per os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 току три месеца (12 недељ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аферез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онцентрација креатинина у серуму мања од 5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ваки или сваки други дан (7 сеанси у току 14 дан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ња се 1.0-1.5 волумен плазме (3000-4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 супституцију плазме користи се свежа смрзнута плаз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емодијали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5"/>
          <p:cNvGrpSpPr/>
          <p:nvPr/>
        </p:nvGrpSpPr>
        <p:grpSpPr>
          <a:xfrm>
            <a:off x="247680" y="870120"/>
            <a:ext cx="8621640" cy="5733720"/>
            <a:chOff x="247680" y="870120"/>
            <a:chExt cx="8621640" cy="5733720"/>
          </a:xfrm>
        </p:grpSpPr>
        <p:grpSp>
          <p:nvGrpSpPr>
            <p:cNvPr id="393" name="Group 5"/>
            <p:cNvGrpSpPr/>
            <p:nvPr/>
          </p:nvGrpSpPr>
          <p:grpSpPr>
            <a:xfrm>
              <a:off x="247680" y="870120"/>
              <a:ext cx="8621640" cy="871200"/>
              <a:chOff x="247680" y="870120"/>
              <a:chExt cx="8621640" cy="871200"/>
            </a:xfrm>
          </p:grpSpPr>
          <p:sp>
            <p:nvSpPr>
              <p:cNvPr id="394" name="Rectangle 3"/>
              <p:cNvSpPr/>
              <p:nvPr/>
            </p:nvSpPr>
            <p:spPr>
              <a:xfrm>
                <a:off x="247680" y="870120"/>
                <a:ext cx="8621640" cy="87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800" spc="-1" strike="noStrike">
                    <a:solidFill>
                      <a:srgbClr val="000000"/>
                    </a:solidFill>
                    <a:latin typeface="Arial"/>
                  </a:rPr>
                  <a:t>БРЗОПРОГРЕСИВНИ ГЛОМЕРУЛОНЕФРИТИ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5"/>
              <p:cNvSpPr/>
              <p:nvPr/>
            </p:nvSpPr>
            <p:spPr>
              <a:xfrm flipV="1">
                <a:off x="320760" y="1496160"/>
                <a:ext cx="843300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Rectangle 7"/>
            <p:cNvSpPr/>
            <p:nvPr/>
          </p:nvSpPr>
          <p:spPr>
            <a:xfrm>
              <a:off x="339480" y="1411200"/>
              <a:ext cx="8413920" cy="51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ТИП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тилпреднизолон 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узија/дан, три дана, а зат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еднизон 1.0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(максимална доза 8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), у току 2-4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Циклофосфамид 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.v.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1 месечно у току 6 месеци, 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ти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500-1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sr-Latn-R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i.v.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ф., једном у три месеца у току две године и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.5-2.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ан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per os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 току три месеца (12 недељ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аферез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онцентрација креатинина у серуму мања од 5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ваки или сваки други дан (7 сеанси у току 14 дан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ња се 1.0-1.5 волумен плазме (3000-4000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лазм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за супституцију плазме користи се 5% раствор албум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дифузна алвеоларна хеморагија: за супституцију се користи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Хемодијали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8"/>
          <p:cNvGrpSpPr/>
          <p:nvPr/>
        </p:nvGrpSpPr>
        <p:grpSpPr>
          <a:xfrm>
            <a:off x="277920" y="1111320"/>
            <a:ext cx="8570880" cy="4097160"/>
            <a:chOff x="277920" y="1111320"/>
            <a:chExt cx="8570880" cy="4097160"/>
          </a:xfrm>
        </p:grpSpPr>
        <p:sp>
          <p:nvSpPr>
            <p:cNvPr id="59" name="Rectangle 3"/>
            <p:cNvSpPr/>
            <p:nvPr/>
          </p:nvSpPr>
          <p:spPr>
            <a:xfrm>
              <a:off x="322920" y="1111320"/>
              <a:ext cx="84981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КУТНИ НЕФРИТИЧКИ </a:t>
              </a:r>
              <a:r>
                <a:rPr b="1" lang="sr-Latn-CS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НДРО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ЛОМЕРУЛСКЕ БОЛЕСТИ БУБРЕ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"/>
            <p:cNvSpPr/>
            <p:nvPr/>
          </p:nvSpPr>
          <p:spPr>
            <a:xfrm>
              <a:off x="277920" y="210672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6040" y="446724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Ф. ДР ДЕЈАН 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257040" y="934920"/>
            <a:ext cx="8622000" cy="4322880"/>
            <a:chOff x="257040" y="934920"/>
            <a:chExt cx="8622000" cy="4322880"/>
          </a:xfrm>
        </p:grpSpPr>
        <p:sp>
          <p:nvSpPr>
            <p:cNvPr id="63" name="Rectangle 3"/>
            <p:cNvSpPr/>
            <p:nvPr/>
          </p:nvSpPr>
          <p:spPr>
            <a:xfrm>
              <a:off x="257040" y="934920"/>
              <a:ext cx="86220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АКУТНИ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ЕФРИТИЧКИ СИНДР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320400" y="163656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320400" y="1671480"/>
              <a:ext cx="8433360" cy="35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кутни нефритички синдром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је клинички синдром који одликуј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ематуријa (микрохематурија/макрохематуриј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теинуријa (протеинурија ненефротског ранг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мањена јачина гломерулске филтрације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JG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лигуријa/ануриј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јав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тока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хидростатски притисак у капилари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ипертензијa (хиперволемиј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320760" y="892080"/>
            <a:ext cx="8432640" cy="6299280"/>
            <a:chOff x="320760" y="892080"/>
            <a:chExt cx="8432640" cy="6299280"/>
          </a:xfrm>
        </p:grpSpPr>
        <p:sp>
          <p:nvSpPr>
            <p:cNvPr id="67" name="Rectangle 3"/>
            <p:cNvSpPr/>
            <p:nvPr/>
          </p:nvSpPr>
          <p:spPr>
            <a:xfrm>
              <a:off x="382680" y="892080"/>
              <a:ext cx="808956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АКУТНИ НЕФРИТИЧКИ СИНДР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382680" y="1446840"/>
              <a:ext cx="80895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Rectangle 6" descr=""/>
            <p:cNvPicPr/>
            <p:nvPr/>
          </p:nvPicPr>
          <p:blipFill>
            <a:blip r:embed="rId1"/>
            <a:stretch/>
          </p:blipFill>
          <p:spPr>
            <a:xfrm>
              <a:off x="320760" y="1395000"/>
              <a:ext cx="8432640" cy="579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1"/>
          <p:cNvGrpSpPr/>
          <p:nvPr/>
        </p:nvGrpSpPr>
        <p:grpSpPr>
          <a:xfrm>
            <a:off x="247680" y="966960"/>
            <a:ext cx="8621640" cy="5680080"/>
            <a:chOff x="247680" y="966960"/>
            <a:chExt cx="8621640" cy="5680080"/>
          </a:xfrm>
        </p:grpSpPr>
        <p:sp>
          <p:nvSpPr>
            <p:cNvPr id="71" name="Rectangle 3"/>
            <p:cNvSpPr/>
            <p:nvPr/>
          </p:nvSpPr>
          <p:spPr>
            <a:xfrm>
              <a:off x="247680" y="966960"/>
              <a:ext cx="86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АЛГОРИТАМ ЗА УТВРЂИВАЊЕ УЗРОКА МИКРОХЕМАТУР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3304080" y="1498320"/>
              <a:ext cx="2509920" cy="50760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микроскопска хематур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5 еритроцита (400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>
              <a:off x="4557600" y="2009160"/>
              <a:ext cx="0" cy="1533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3301920" y="2162880"/>
              <a:ext cx="2509920" cy="80064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амнеза, физикални преглед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лабораторијска испитивања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ултрасонографија уротракта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ативни снимак уротра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3304440" y="3102120"/>
              <a:ext cx="2509920" cy="50760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фазно-контраст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4557600" y="2967120"/>
              <a:ext cx="0" cy="13140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6027840" y="2310120"/>
              <a:ext cx="2509920" cy="50760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уролошки поремећај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573120" y="2005200"/>
              <a:ext cx="2509920" cy="112356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ремећај коагула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тромбоцити, време крварењ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T, PTT, 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немија српастих ћел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HbS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>
              <a:off x="4556160" y="3611520"/>
              <a:ext cx="0" cy="21132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 flipH="1">
              <a:off x="2466360" y="3695760"/>
              <a:ext cx="208908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1209600" y="3530880"/>
              <a:ext cx="1244520" cy="33012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дрепаноци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 flipV="1">
              <a:off x="1832040" y="3102120"/>
              <a:ext cx="0" cy="42192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3063960" y="3822840"/>
              <a:ext cx="295884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3063960" y="3822840"/>
              <a:ext cx="0" cy="17172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6023160" y="3822840"/>
              <a:ext cx="0" cy="1695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1809720" y="3999960"/>
              <a:ext cx="2509920" cy="111096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гломерулска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хематуриј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Symbol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80%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Ер. измењеног обл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Symbol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5% акантоцита у мокраћ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еритроцитни цилиндри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4768920" y="3999960"/>
              <a:ext cx="2509920" cy="45684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гломерулск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хематуриј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6023160" y="4458600"/>
              <a:ext cx="0" cy="16920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4768920" y="4631400"/>
              <a:ext cx="2509920" cy="45684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уролошка испитивањ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3063960" y="5112720"/>
              <a:ext cx="0" cy="1839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1809720" y="5307840"/>
              <a:ext cx="2509920" cy="45684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6023160" y="5093280"/>
              <a:ext cx="0" cy="615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5311800" y="5155200"/>
              <a:ext cx="142848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5311800" y="5155200"/>
              <a:ext cx="0" cy="1155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3"/>
            <p:cNvSpPr/>
            <p:nvPr/>
          </p:nvSpPr>
          <p:spPr>
            <a:xfrm>
              <a:off x="6740640" y="5155200"/>
              <a:ext cx="0" cy="11088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4695840" y="5271120"/>
              <a:ext cx="1231920" cy="36792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одрасли стар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45 годи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6124680" y="5271120"/>
              <a:ext cx="1231920" cy="36792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одрасли стар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45 годи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5311800" y="5639400"/>
              <a:ext cx="0" cy="12060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7"/>
            <p:cNvSpPr/>
            <p:nvPr/>
          </p:nvSpPr>
          <p:spPr>
            <a:xfrm>
              <a:off x="4695840" y="5774040"/>
              <a:ext cx="1231920" cy="57744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калциур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урикозур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6740640" y="5639400"/>
              <a:ext cx="0" cy="12996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"/>
            <p:cNvSpPr/>
            <p:nvPr/>
          </p:nvSpPr>
          <p:spPr>
            <a:xfrm>
              <a:off x="6124680" y="5774040"/>
              <a:ext cx="2657520" cy="873000"/>
            </a:xfrm>
            <a:prstGeom prst="rect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Калциурија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урикозур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ехо уротракта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цистоскоп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пијелографија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RPG-Schewass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CT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ангиограф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 flipH="1">
              <a:off x="7282080" y="4868640"/>
              <a:ext cx="21888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7500960" y="2816640"/>
              <a:ext cx="0" cy="205200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0"/>
            <p:cNvSpPr/>
            <p:nvPr/>
          </p:nvSpPr>
          <p:spPr>
            <a:xfrm flipH="1">
              <a:off x="3084840" y="2566080"/>
              <a:ext cx="21888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 flipH="1">
              <a:off x="5815440" y="2573280"/>
              <a:ext cx="20844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4"/>
          <p:cNvSpPr/>
          <p:nvPr/>
        </p:nvSpPr>
        <p:spPr>
          <a:xfrm>
            <a:off x="249120" y="1395360"/>
            <a:ext cx="8570880" cy="0"/>
          </a:xfrm>
          <a:prstGeom prst="line">
            <a:avLst/>
          </a:prstGeom>
          <a:ln w="38160">
            <a:solidFill>
              <a:srgbClr val="ff7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6"/>
          <p:cNvGrpSpPr/>
          <p:nvPr/>
        </p:nvGrpSpPr>
        <p:grpSpPr>
          <a:xfrm>
            <a:off x="277920" y="996840"/>
            <a:ext cx="8578800" cy="4880160"/>
            <a:chOff x="277920" y="996840"/>
            <a:chExt cx="8578800" cy="4880160"/>
          </a:xfrm>
        </p:grpSpPr>
        <p:sp>
          <p:nvSpPr>
            <p:cNvPr id="108" name="Rectangle 2"/>
            <p:cNvSpPr/>
            <p:nvPr/>
          </p:nvSpPr>
          <p:spPr>
            <a:xfrm>
              <a:off x="285840" y="996840"/>
              <a:ext cx="8570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КРИТЕРИЈУМИ ЗА ГЛОМЕРУЛСКУ МИКРОХЕМАТУР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42" descr=""/>
            <p:cNvPicPr/>
            <p:nvPr/>
          </p:nvPicPr>
          <p:blipFill>
            <a:blip r:embed="rId1"/>
            <a:stretch/>
          </p:blipFill>
          <p:spPr>
            <a:xfrm>
              <a:off x="1378080" y="4388040"/>
              <a:ext cx="199368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4" descr=""/>
            <p:cNvPicPr/>
            <p:nvPr/>
          </p:nvPicPr>
          <p:blipFill>
            <a:blip r:embed="rId2"/>
            <a:stretch/>
          </p:blipFill>
          <p:spPr>
            <a:xfrm>
              <a:off x="5548320" y="4389840"/>
              <a:ext cx="22194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5" descr=""/>
            <p:cNvPicPr/>
            <p:nvPr/>
          </p:nvPicPr>
          <p:blipFill>
            <a:blip r:embed="rId3"/>
            <a:srcRect l="0" t="0" r="0" b="50648"/>
            <a:stretch/>
          </p:blipFill>
          <p:spPr>
            <a:xfrm>
              <a:off x="3371760" y="4305960"/>
              <a:ext cx="2178720" cy="14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46"/>
            <p:cNvSpPr/>
            <p:nvPr/>
          </p:nvSpPr>
          <p:spPr>
            <a:xfrm>
              <a:off x="1231920" y="4251600"/>
              <a:ext cx="6676920" cy="16254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30"/>
            <p:cNvGrpSpPr/>
            <p:nvPr/>
          </p:nvGrpSpPr>
          <p:grpSpPr>
            <a:xfrm>
              <a:off x="541440" y="1596960"/>
              <a:ext cx="8060760" cy="2541240"/>
              <a:chOff x="541440" y="1596960"/>
              <a:chExt cx="8060760" cy="2541240"/>
            </a:xfrm>
          </p:grpSpPr>
          <p:sp>
            <p:nvSpPr>
              <p:cNvPr id="114" name="Rectangle 8"/>
              <p:cNvSpPr/>
              <p:nvPr/>
            </p:nvSpPr>
            <p:spPr>
              <a:xfrm>
                <a:off x="541440" y="1596960"/>
                <a:ext cx="4075920" cy="5205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ГЛОМЕРУЛСКА МИКРОХЕМАТ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9"/>
              <p:cNvSpPr/>
              <p:nvPr/>
            </p:nvSpPr>
            <p:spPr>
              <a:xfrm>
                <a:off x="4618080" y="1596960"/>
                <a:ext cx="3984120" cy="5205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НЕГЛОМЕРУЛСКА МИКРОХЕМАТ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Group 10"/>
              <p:cNvGrpSpPr/>
              <p:nvPr/>
            </p:nvGrpSpPr>
            <p:grpSpPr>
              <a:xfrm>
                <a:off x="546480" y="2117160"/>
                <a:ext cx="8053560" cy="333360"/>
                <a:chOff x="546480" y="2117160"/>
                <a:chExt cx="8053560" cy="333360"/>
              </a:xfrm>
            </p:grpSpPr>
            <p:sp>
              <p:nvSpPr>
                <p:cNvPr id="117" name="Rectangle 11"/>
                <p:cNvSpPr/>
                <p:nvPr/>
              </p:nvSpPr>
              <p:spPr>
                <a:xfrm>
                  <a:off x="546480" y="2117160"/>
                  <a:ext cx="407052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Еритроцитни цилиндри присут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12"/>
                <p:cNvSpPr/>
                <p:nvPr/>
              </p:nvSpPr>
              <p:spPr>
                <a:xfrm>
                  <a:off x="4617000" y="2117160"/>
                  <a:ext cx="398304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Еритроцитни цилиндри одсут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Rectangle 20"/>
              <p:cNvSpPr/>
              <p:nvPr/>
            </p:nvSpPr>
            <p:spPr>
              <a:xfrm>
                <a:off x="547920" y="2449800"/>
                <a:ext cx="40690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ритроцити измењеног облика (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80%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1"/>
              <p:cNvSpPr/>
              <p:nvPr/>
            </p:nvSpPr>
            <p:spPr>
              <a:xfrm>
                <a:off x="4618080" y="2449800"/>
                <a:ext cx="398412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Еритроцити нормалног обл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2"/>
              <p:cNvSpPr/>
              <p:nvPr/>
            </p:nvSpPr>
            <p:spPr>
              <a:xfrm>
                <a:off x="547920" y="2784240"/>
                <a:ext cx="40708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кантоцитурија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3"/>
              <p:cNvSpPr/>
              <p:nvPr/>
            </p:nvSpPr>
            <p:spPr>
              <a:xfrm>
                <a:off x="4618080" y="2784240"/>
                <a:ext cx="398412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Акантоцитурија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34"/>
              <p:cNvGrpSpPr/>
              <p:nvPr/>
            </p:nvGrpSpPr>
            <p:grpSpPr>
              <a:xfrm>
                <a:off x="546480" y="3116880"/>
                <a:ext cx="8053560" cy="333360"/>
                <a:chOff x="546480" y="3116880"/>
                <a:chExt cx="8053560" cy="333360"/>
              </a:xfrm>
            </p:grpSpPr>
            <p:sp>
              <p:nvSpPr>
                <p:cNvPr id="124" name="Rectangle 35"/>
                <p:cNvSpPr/>
                <p:nvPr/>
              </p:nvSpPr>
              <p:spPr>
                <a:xfrm>
                  <a:off x="546480" y="3116880"/>
                  <a:ext cx="407232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MCV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72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36"/>
                <p:cNvSpPr/>
                <p:nvPr/>
              </p:nvSpPr>
              <p:spPr>
                <a:xfrm>
                  <a:off x="4617000" y="3116880"/>
                  <a:ext cx="398304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UMCV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72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f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37"/>
              <p:cNvGrpSpPr/>
              <p:nvPr/>
            </p:nvGrpSpPr>
            <p:grpSpPr>
              <a:xfrm>
                <a:off x="546480" y="3450240"/>
                <a:ext cx="8053560" cy="333360"/>
                <a:chOff x="546480" y="3450240"/>
                <a:chExt cx="8053560" cy="333360"/>
              </a:xfrm>
            </p:grpSpPr>
            <p:sp>
              <p:nvSpPr>
                <p:cNvPr id="127" name="Rectangle 38"/>
                <p:cNvSpPr/>
                <p:nvPr/>
              </p:nvSpPr>
              <p:spPr>
                <a:xfrm>
                  <a:off x="546480" y="3450240"/>
                  <a:ext cx="407232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MCV/BMCV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9"/>
                <p:cNvSpPr/>
                <p:nvPr/>
              </p:nvSpPr>
              <p:spPr>
                <a:xfrm>
                  <a:off x="4617000" y="3450240"/>
                  <a:ext cx="3983040" cy="3333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UMCV/BMCV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Rectangle 47"/>
              <p:cNvSpPr/>
              <p:nvPr/>
            </p:nvSpPr>
            <p:spPr>
              <a:xfrm>
                <a:off x="625680" y="3831840"/>
                <a:ext cx="77792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ЕРИТРОЦИТНИ  ИНДЕКСИ: </a:t>
                </a:r>
                <a:r>
                  <a:rPr b="1" i="1" lang="sr-Latn-CS" sz="1000" spc="-1" strike="noStrike">
                    <a:solidFill>
                      <a:srgbClr val="000000"/>
                    </a:solidFill>
                    <a:latin typeface="Arial"/>
                  </a:rPr>
                  <a:t>UMCV</a:t>
                </a: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 - просечна запремина еритроцита из урина, </a:t>
                </a:r>
                <a:r>
                  <a:rPr b="1" i="1" lang="sr-Latn-CS" sz="1000" spc="-1" strike="noStrike">
                    <a:solidFill>
                      <a:srgbClr val="000000"/>
                    </a:solidFill>
                    <a:latin typeface="Arial"/>
                  </a:rPr>
                  <a:t>BMCV</a:t>
                </a: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 - просечна запремина еритроцита из крв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Line 4"/>
            <p:cNvSpPr/>
            <p:nvPr/>
          </p:nvSpPr>
          <p:spPr>
            <a:xfrm>
              <a:off x="277920" y="149688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ejan</cp:lastModifiedBy>
  <dcterms:modified xsi:type="dcterms:W3CDTF">2019-08-08T10:11:23Z</dcterms:modified>
  <cp:revision>320</cp:revision>
  <dc:subject/>
  <dc:title>Slide 1</dc:title>
</cp:coreProperties>
</file>